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242-C67F-4F16-8FC6-0E2CC67B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E44-E215-424B-ACB0-95CFC56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1B9-58E0-4037-926F-A65CD87A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823-31F1-4016-86E0-1A70F8BE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C9C-AD03-4432-B1B6-9332C30A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4144-80D6-4257-ABBF-194F3DF5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BB3-E727-48AE-98D7-B9FF3EB4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B13C-20D4-4A1C-94D5-1F9147C4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60E-4532-47E7-B088-24535931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658-E5CB-4411-994C-0AF5229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D584-7609-46AB-AB80-C11961C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F36-AD2D-45FE-8697-23E42808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51F-77BE-4D25-80DA-A3CD593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788-E5EE-48D5-9631-00C0867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EB9-80CF-4BE6-8FE4-BBCE8B8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6B59-63EB-47E2-8E1B-921BD74A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CF3-6D3F-4F9F-9827-B0C8BA9E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AC5-3CA1-498B-B728-687957B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ABA-FDC9-42D7-9992-73F3C358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6B1-F19B-41BD-B1ED-546CF701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1A8-640F-4767-95D7-B982F90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B9E-E2BD-41AB-B902-DFC71B99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C76-844E-4110-824B-C76799D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C2C-662A-4D01-A246-6493B92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918-C957-47BC-B9F5-B2249C170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C05-71A8-41D3-B08B-82BBB6835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– up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 ( 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2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(-3)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6640" y="1911240"/>
            <a:ext cx="536400" cy="2357640"/>
          </a:xfrm>
          <a:custGeom>
            <a:avLst/>
            <a:gdLst/>
            <a:ahLst/>
            <a:rect l="l" t="t" r="r" b="b"/>
            <a:pathLst>
              <a:path w="1489" h="6550">
                <a:moveTo>
                  <a:pt x="6325" y="5457"/>
                </a:moveTo>
                <a:cubicBezTo>
                  <a:pt x="6468" y="5396"/>
                  <a:pt x="6585" y="5342"/>
                  <a:pt x="6747" y="5308"/>
                </a:cubicBezTo>
              </a:path>
              <a:path w="1489" h="6550">
                <a:moveTo>
                  <a:pt x="6449" y="5631"/>
                </a:moveTo>
                <a:cubicBezTo>
                  <a:pt x="6589" y="5546"/>
                  <a:pt x="6646" y="5512"/>
                  <a:pt x="6747" y="5457"/>
                </a:cubicBezTo>
              </a:path>
              <a:path w="1489" h="6550">
                <a:moveTo>
                  <a:pt x="7441" y="11857"/>
                </a:moveTo>
                <a:cubicBezTo>
                  <a:pt x="7569" y="11814"/>
                  <a:pt x="7688" y="11761"/>
                  <a:pt x="781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1625760"/>
            <a:ext cx="420840" cy="32040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7342" y="4862"/>
                </a:moveTo>
                <a:cubicBezTo>
                  <a:pt x="7485" y="4808"/>
                  <a:pt x="7536" y="4765"/>
                  <a:pt x="7689" y="4787"/>
                </a:cubicBezTo>
                <a:cubicBezTo>
                  <a:pt x="7648" y="5023"/>
                  <a:pt x="7534" y="5193"/>
                  <a:pt x="7417" y="5407"/>
                </a:cubicBezTo>
                <a:cubicBezTo>
                  <a:pt x="7518" y="5407"/>
                  <a:pt x="7592" y="5353"/>
                  <a:pt x="7689" y="5333"/>
                </a:cubicBezTo>
                <a:cubicBezTo>
                  <a:pt x="7739" y="5333"/>
                  <a:pt x="7756" y="5333"/>
                  <a:pt x="7789" y="5333"/>
                </a:cubicBezTo>
              </a:path>
              <a:path w="1167" h="894">
                <a:moveTo>
                  <a:pt x="8458" y="4514"/>
                </a:moveTo>
                <a:cubicBezTo>
                  <a:pt x="8284" y="4591"/>
                  <a:pt x="8012" y="4658"/>
                  <a:pt x="8012" y="4862"/>
                </a:cubicBezTo>
                <a:cubicBezTo>
                  <a:pt x="8141" y="4906"/>
                  <a:pt x="8653" y="4971"/>
                  <a:pt x="8458" y="5209"/>
                </a:cubicBezTo>
                <a:cubicBezTo>
                  <a:pt x="8324" y="5298"/>
                  <a:pt x="8292" y="5335"/>
                  <a:pt x="8186" y="5283"/>
                </a:cubicBezTo>
                <a:cubicBezTo>
                  <a:pt x="8194" y="5023"/>
                  <a:pt x="8239" y="4814"/>
                  <a:pt x="8384" y="4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41720" y="3098880"/>
            <a:ext cx="17928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6226" y="8731"/>
                </a:moveTo>
                <a:cubicBezTo>
                  <a:pt x="6395" y="8697"/>
                  <a:pt x="6556" y="8655"/>
                  <a:pt x="6722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08200" y="4170240"/>
            <a:ext cx="150840" cy="3672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7243" y="11683"/>
                </a:moveTo>
                <a:cubicBezTo>
                  <a:pt x="7357" y="11664"/>
                  <a:pt x="7453" y="11640"/>
                  <a:pt x="7565" y="11609"/>
                </a:cubicBezTo>
                <a:cubicBezTo>
                  <a:pt x="7598" y="11601"/>
                  <a:pt x="7632" y="11592"/>
                  <a:pt x="766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884320"/>
            <a:ext cx="920880" cy="34776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6350" y="8979"/>
                </a:moveTo>
                <a:cubicBezTo>
                  <a:pt x="6505" y="8914"/>
                  <a:pt x="6662" y="8862"/>
                  <a:pt x="6821" y="8806"/>
                </a:cubicBezTo>
              </a:path>
              <a:path w="2556" h="968">
                <a:moveTo>
                  <a:pt x="7987" y="8260"/>
                </a:moveTo>
                <a:cubicBezTo>
                  <a:pt x="7968" y="8386"/>
                  <a:pt x="7960" y="8460"/>
                  <a:pt x="7987" y="8582"/>
                </a:cubicBezTo>
                <a:cubicBezTo>
                  <a:pt x="8177" y="8551"/>
                  <a:pt x="8328" y="8484"/>
                  <a:pt x="8508" y="8409"/>
                </a:cubicBezTo>
              </a:path>
              <a:path w="2556" h="968">
                <a:moveTo>
                  <a:pt x="8533" y="8012"/>
                </a:moveTo>
                <a:cubicBezTo>
                  <a:pt x="8474" y="8311"/>
                  <a:pt x="8390" y="8609"/>
                  <a:pt x="8334" y="8905"/>
                </a:cubicBezTo>
              </a:path>
              <a:path w="2556" h="968">
                <a:moveTo>
                  <a:pt x="7243" y="8434"/>
                </a:moveTo>
                <a:cubicBezTo>
                  <a:pt x="7276" y="8434"/>
                  <a:pt x="7309" y="8434"/>
                  <a:pt x="7342" y="8434"/>
                </a:cubicBezTo>
              </a:path>
              <a:path w="2556" h="968">
                <a:moveTo>
                  <a:pt x="8905" y="8062"/>
                </a:moveTo>
                <a:cubicBezTo>
                  <a:pt x="8886" y="8126"/>
                  <a:pt x="8855" y="8195"/>
                  <a:pt x="8830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60800" y="2884320"/>
            <a:ext cx="17928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8830" y="8260"/>
                </a:moveTo>
                <a:cubicBezTo>
                  <a:pt x="8789" y="8597"/>
                  <a:pt x="8725" y="8587"/>
                  <a:pt x="8954" y="8781"/>
                </a:cubicBezTo>
                <a:cubicBezTo>
                  <a:pt x="9182" y="8622"/>
                  <a:pt x="9419" y="8367"/>
                  <a:pt x="9203" y="8062"/>
                </a:cubicBezTo>
                <a:cubicBezTo>
                  <a:pt x="9031" y="7992"/>
                  <a:pt x="8940" y="7994"/>
                  <a:pt x="8806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4880" y="3857760"/>
            <a:ext cx="500040" cy="339480"/>
          </a:xfrm>
          <a:custGeom>
            <a:avLst/>
            <a:gdLst/>
            <a:ahLst/>
            <a:rect l="l" t="t" r="r" b="b"/>
            <a:pathLst>
              <a:path w="1390" h="943">
                <a:moveTo>
                  <a:pt x="8458" y="11162"/>
                </a:moveTo>
                <a:cubicBezTo>
                  <a:pt x="8609" y="11062"/>
                  <a:pt x="8774" y="10996"/>
                  <a:pt x="8954" y="10964"/>
                </a:cubicBezTo>
                <a:cubicBezTo>
                  <a:pt x="8971" y="10964"/>
                  <a:pt x="8987" y="10964"/>
                  <a:pt x="9004" y="10964"/>
                </a:cubicBezTo>
                <a:cubicBezTo>
                  <a:pt x="9018" y="11184"/>
                  <a:pt x="8886" y="11382"/>
                  <a:pt x="8880" y="11609"/>
                </a:cubicBezTo>
                <a:cubicBezTo>
                  <a:pt x="8888" y="11625"/>
                  <a:pt x="8897" y="11642"/>
                  <a:pt x="8905" y="11658"/>
                </a:cubicBezTo>
              </a:path>
              <a:path w="1390" h="943">
                <a:moveTo>
                  <a:pt x="9401" y="10740"/>
                </a:moveTo>
                <a:cubicBezTo>
                  <a:pt x="9505" y="10727"/>
                  <a:pt x="9549" y="10729"/>
                  <a:pt x="9649" y="10740"/>
                </a:cubicBezTo>
                <a:cubicBezTo>
                  <a:pt x="9665" y="11000"/>
                  <a:pt x="9501" y="11170"/>
                  <a:pt x="9401" y="11410"/>
                </a:cubicBezTo>
                <a:cubicBezTo>
                  <a:pt x="9393" y="11443"/>
                  <a:pt x="9384" y="11476"/>
                  <a:pt x="9376" y="11509"/>
                </a:cubicBezTo>
                <a:cubicBezTo>
                  <a:pt x="9550" y="11490"/>
                  <a:pt x="9663" y="11425"/>
                  <a:pt x="9823" y="11361"/>
                </a:cubicBezTo>
                <a:cubicBezTo>
                  <a:pt x="9831" y="11361"/>
                  <a:pt x="9839" y="11361"/>
                  <a:pt x="9847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1000" y="5456160"/>
            <a:ext cx="820800" cy="955800"/>
          </a:xfrm>
          <a:custGeom>
            <a:avLst/>
            <a:gdLst/>
            <a:ahLst/>
            <a:rect l="l" t="t" r="r" b="b"/>
            <a:pathLst>
              <a:path w="2283" h="2655">
                <a:moveTo>
                  <a:pt x="3473" y="15230"/>
                </a:moveTo>
                <a:cubicBezTo>
                  <a:pt x="3500" y="15313"/>
                  <a:pt x="3497" y="15406"/>
                  <a:pt x="3497" y="15503"/>
                </a:cubicBezTo>
                <a:cubicBezTo>
                  <a:pt x="3497" y="15544"/>
                  <a:pt x="3497" y="15552"/>
                  <a:pt x="3497" y="15577"/>
                </a:cubicBezTo>
                <a:cubicBezTo>
                  <a:pt x="3696" y="15539"/>
                  <a:pt x="3889" y="15490"/>
                  <a:pt x="4093" y="15478"/>
                </a:cubicBezTo>
                <a:cubicBezTo>
                  <a:pt x="4247" y="15469"/>
                  <a:pt x="4438" y="15459"/>
                  <a:pt x="4589" y="15503"/>
                </a:cubicBezTo>
                <a:cubicBezTo>
                  <a:pt x="4616" y="15511"/>
                  <a:pt x="4637" y="15518"/>
                  <a:pt x="4663" y="15528"/>
                </a:cubicBezTo>
                <a:cubicBezTo>
                  <a:pt x="4673" y="15423"/>
                  <a:pt x="4685" y="15307"/>
                  <a:pt x="4713" y="15205"/>
                </a:cubicBezTo>
                <a:cubicBezTo>
                  <a:pt x="4745" y="15088"/>
                  <a:pt x="4718" y="15195"/>
                  <a:pt x="4738" y="15156"/>
                </a:cubicBezTo>
              </a:path>
              <a:path w="2283" h="2655">
                <a:moveTo>
                  <a:pt x="4366" y="15900"/>
                </a:moveTo>
                <a:cubicBezTo>
                  <a:pt x="4350" y="15821"/>
                  <a:pt x="4330" y="15769"/>
                  <a:pt x="4242" y="15751"/>
                </a:cubicBezTo>
                <a:cubicBezTo>
                  <a:pt x="4081" y="15719"/>
                  <a:pt x="4027" y="15914"/>
                  <a:pt x="3969" y="16024"/>
                </a:cubicBezTo>
                <a:cubicBezTo>
                  <a:pt x="4093" y="16086"/>
                  <a:pt x="4197" y="16046"/>
                  <a:pt x="4316" y="15949"/>
                </a:cubicBezTo>
                <a:cubicBezTo>
                  <a:pt x="4371" y="15894"/>
                  <a:pt x="4396" y="15896"/>
                  <a:pt x="4390" y="15850"/>
                </a:cubicBezTo>
                <a:cubicBezTo>
                  <a:pt x="4390" y="16018"/>
                  <a:pt x="4397" y="16186"/>
                  <a:pt x="4366" y="16346"/>
                </a:cubicBezTo>
                <a:cubicBezTo>
                  <a:pt x="4366" y="16354"/>
                  <a:pt x="4366" y="16363"/>
                  <a:pt x="4366" y="16371"/>
                </a:cubicBezTo>
              </a:path>
              <a:path w="2283" h="2655">
                <a:moveTo>
                  <a:pt x="4887" y="15602"/>
                </a:moveTo>
                <a:cubicBezTo>
                  <a:pt x="4842" y="15757"/>
                  <a:pt x="4765" y="15916"/>
                  <a:pt x="4713" y="16073"/>
                </a:cubicBezTo>
                <a:cubicBezTo>
                  <a:pt x="4663" y="16226"/>
                  <a:pt x="4637" y="16371"/>
                  <a:pt x="4787" y="16470"/>
                </a:cubicBezTo>
                <a:cubicBezTo>
                  <a:pt x="4832" y="16500"/>
                  <a:pt x="4848" y="16491"/>
                  <a:pt x="4887" y="16520"/>
                </a:cubicBezTo>
              </a:path>
              <a:path w="2283" h="2655">
                <a:moveTo>
                  <a:pt x="5060" y="15974"/>
                </a:moveTo>
                <a:cubicBezTo>
                  <a:pt x="5060" y="16003"/>
                  <a:pt x="5040" y="16173"/>
                  <a:pt x="5085" y="16173"/>
                </a:cubicBezTo>
                <a:cubicBezTo>
                  <a:pt x="5166" y="16173"/>
                  <a:pt x="5245" y="16123"/>
                  <a:pt x="5333" y="16123"/>
                </a:cubicBezTo>
              </a:path>
              <a:path w="2283" h="2655">
                <a:moveTo>
                  <a:pt x="5358" y="15900"/>
                </a:moveTo>
                <a:cubicBezTo>
                  <a:pt x="5358" y="16018"/>
                  <a:pt x="5337" y="16129"/>
                  <a:pt x="5333" y="16247"/>
                </a:cubicBezTo>
                <a:cubicBezTo>
                  <a:pt x="5331" y="16296"/>
                  <a:pt x="5333" y="16347"/>
                  <a:pt x="5333" y="16396"/>
                </a:cubicBezTo>
              </a:path>
              <a:path w="2283" h="2655">
                <a:moveTo>
                  <a:pt x="5358" y="15627"/>
                </a:moveTo>
                <a:cubicBezTo>
                  <a:pt x="5530" y="15722"/>
                  <a:pt x="5654" y="15808"/>
                  <a:pt x="5730" y="15999"/>
                </a:cubicBezTo>
                <a:cubicBezTo>
                  <a:pt x="5796" y="16165"/>
                  <a:pt x="5707" y="16306"/>
                  <a:pt x="5631" y="16446"/>
                </a:cubicBezTo>
                <a:cubicBezTo>
                  <a:pt x="5611" y="16486"/>
                  <a:pt x="5612" y="16502"/>
                  <a:pt x="5581" y="16495"/>
                </a:cubicBezTo>
              </a:path>
              <a:path w="2283" h="2655">
                <a:moveTo>
                  <a:pt x="4366" y="16545"/>
                </a:moveTo>
                <a:cubicBezTo>
                  <a:pt x="4366" y="16479"/>
                  <a:pt x="4366" y="16628"/>
                  <a:pt x="4366" y="16694"/>
                </a:cubicBezTo>
                <a:cubicBezTo>
                  <a:pt x="4366" y="16752"/>
                  <a:pt x="4366" y="16809"/>
                  <a:pt x="4366" y="16867"/>
                </a:cubicBezTo>
                <a:cubicBezTo>
                  <a:pt x="4504" y="16844"/>
                  <a:pt x="4617" y="16821"/>
                  <a:pt x="4762" y="16818"/>
                </a:cubicBezTo>
                <a:cubicBezTo>
                  <a:pt x="4900" y="16816"/>
                  <a:pt x="5030" y="16815"/>
                  <a:pt x="5159" y="16842"/>
                </a:cubicBezTo>
                <a:cubicBezTo>
                  <a:pt x="5184" y="16842"/>
                  <a:pt x="5192" y="16842"/>
                  <a:pt x="5209" y="16842"/>
                </a:cubicBezTo>
                <a:cubicBezTo>
                  <a:pt x="5209" y="16723"/>
                  <a:pt x="5227" y="16612"/>
                  <a:pt x="5234" y="16495"/>
                </a:cubicBezTo>
                <a:cubicBezTo>
                  <a:pt x="5234" y="16487"/>
                  <a:pt x="5234" y="16478"/>
                  <a:pt x="5234" y="16470"/>
                </a:cubicBezTo>
              </a:path>
              <a:path w="2283" h="2655">
                <a:moveTo>
                  <a:pt x="4490" y="17289"/>
                </a:moveTo>
                <a:cubicBezTo>
                  <a:pt x="4612" y="17271"/>
                  <a:pt x="4668" y="17210"/>
                  <a:pt x="4812" y="17239"/>
                </a:cubicBezTo>
                <a:cubicBezTo>
                  <a:pt x="4829" y="17247"/>
                  <a:pt x="4845" y="17256"/>
                  <a:pt x="4862" y="17264"/>
                </a:cubicBezTo>
                <a:cubicBezTo>
                  <a:pt x="4843" y="17413"/>
                  <a:pt x="4820" y="17499"/>
                  <a:pt x="4663" y="17562"/>
                </a:cubicBezTo>
                <a:cubicBezTo>
                  <a:pt x="4655" y="17562"/>
                  <a:pt x="4646" y="17562"/>
                  <a:pt x="4638" y="17562"/>
                </a:cubicBezTo>
                <a:cubicBezTo>
                  <a:pt x="4685" y="17508"/>
                  <a:pt x="4837" y="17408"/>
                  <a:pt x="4887" y="17537"/>
                </a:cubicBezTo>
                <a:cubicBezTo>
                  <a:pt x="4959" y="17723"/>
                  <a:pt x="4779" y="17792"/>
                  <a:pt x="4638" y="17810"/>
                </a:cubicBezTo>
                <a:cubicBezTo>
                  <a:pt x="4563" y="17820"/>
                  <a:pt x="4529" y="17830"/>
                  <a:pt x="4514" y="17785"/>
                </a:cubicBezTo>
              </a:path>
              <a:path w="2283" h="2655">
                <a:moveTo>
                  <a:pt x="5159" y="17165"/>
                </a:moveTo>
                <a:cubicBezTo>
                  <a:pt x="5144" y="17245"/>
                  <a:pt x="5103" y="17308"/>
                  <a:pt x="5085" y="17388"/>
                </a:cubicBezTo>
                <a:cubicBezTo>
                  <a:pt x="5063" y="17487"/>
                  <a:pt x="5037" y="17589"/>
                  <a:pt x="5085" y="17686"/>
                </a:cubicBezTo>
                <a:cubicBezTo>
                  <a:pt x="5125" y="17767"/>
                  <a:pt x="5270" y="17751"/>
                  <a:pt x="5333" y="17735"/>
                </a:cubicBezTo>
                <a:cubicBezTo>
                  <a:pt x="5411" y="17715"/>
                  <a:pt x="5515" y="17686"/>
                  <a:pt x="5581" y="17636"/>
                </a:cubicBezTo>
                <a:cubicBezTo>
                  <a:pt x="5621" y="17605"/>
                  <a:pt x="5693" y="17490"/>
                  <a:pt x="5680" y="17438"/>
                </a:cubicBezTo>
                <a:cubicBezTo>
                  <a:pt x="5670" y="17399"/>
                  <a:pt x="5514" y="17397"/>
                  <a:pt x="5482" y="17413"/>
                </a:cubicBezTo>
                <a:cubicBezTo>
                  <a:pt x="5427" y="17441"/>
                  <a:pt x="5357" y="17478"/>
                  <a:pt x="5333" y="17537"/>
                </a:cubicBezTo>
                <a:cubicBezTo>
                  <a:pt x="5312" y="17588"/>
                  <a:pt x="5338" y="17667"/>
                  <a:pt x="5358" y="17711"/>
                </a:cubicBezTo>
                <a:cubicBezTo>
                  <a:pt x="5366" y="17727"/>
                  <a:pt x="5375" y="17744"/>
                  <a:pt x="5383" y="17760"/>
                </a:cubicBezTo>
              </a:path>
              <a:path w="2283" h="2655">
                <a:moveTo>
                  <a:pt x="3994" y="17413"/>
                </a:moveTo>
                <a:cubicBezTo>
                  <a:pt x="4032" y="17354"/>
                  <a:pt x="4164" y="17381"/>
                  <a:pt x="4242" y="17363"/>
                </a:cubicBezTo>
                <a:cubicBezTo>
                  <a:pt x="4341" y="17340"/>
                  <a:pt x="4252" y="17342"/>
                  <a:pt x="4316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nit 12: Integers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4960" y="2295360"/>
            <a:ext cx="3679920" cy="4044960"/>
          </a:xfrm>
          <a:custGeom>
            <a:avLst/>
            <a:gdLst/>
            <a:ahLst/>
            <a:rect l="l" t="t" r="r" b="b"/>
            <a:pathLst>
              <a:path w="10220" h="11237">
                <a:moveTo>
                  <a:pt x="20638" y="6747"/>
                </a:moveTo>
                <a:cubicBezTo>
                  <a:pt x="20799" y="6740"/>
                  <a:pt x="20949" y="6723"/>
                  <a:pt x="21109" y="6697"/>
                </a:cubicBezTo>
              </a:path>
              <a:path w="10220" h="11237">
                <a:moveTo>
                  <a:pt x="24705" y="6375"/>
                </a:moveTo>
                <a:lnTo>
                  <a:pt x="24705" y="6375"/>
                </a:lnTo>
              </a:path>
              <a:path w="10220" h="11237">
                <a:moveTo>
                  <a:pt x="14486" y="17587"/>
                </a:moveTo>
                <a:cubicBezTo>
                  <a:pt x="14486" y="17595"/>
                  <a:pt x="14486" y="17603"/>
                  <a:pt x="1448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13280" y="1633680"/>
            <a:ext cx="1258920" cy="1652400"/>
          </a:xfrm>
          <a:custGeom>
            <a:avLst/>
            <a:gdLst/>
            <a:ahLst/>
            <a:rect l="l" t="t" r="r" b="b"/>
            <a:pathLst>
              <a:path w="3498" h="4590">
                <a:moveTo>
                  <a:pt x="18430" y="4837"/>
                </a:moveTo>
                <a:cubicBezTo>
                  <a:pt x="18465" y="4908"/>
                  <a:pt x="18421" y="4713"/>
                  <a:pt x="18405" y="4688"/>
                </a:cubicBezTo>
                <a:cubicBezTo>
                  <a:pt x="18338" y="4598"/>
                  <a:pt x="18322" y="4571"/>
                  <a:pt x="18256" y="4539"/>
                </a:cubicBezTo>
                <a:cubicBezTo>
                  <a:pt x="18061" y="4670"/>
                  <a:pt x="18062" y="4753"/>
                  <a:pt x="18083" y="4986"/>
                </a:cubicBezTo>
                <a:cubicBezTo>
                  <a:pt x="18285" y="5001"/>
                  <a:pt x="18357" y="4907"/>
                  <a:pt x="18430" y="4713"/>
                </a:cubicBezTo>
                <a:cubicBezTo>
                  <a:pt x="18438" y="4680"/>
                  <a:pt x="18447" y="4647"/>
                  <a:pt x="18455" y="4614"/>
                </a:cubicBezTo>
                <a:cubicBezTo>
                  <a:pt x="18455" y="4816"/>
                  <a:pt x="18447" y="5009"/>
                  <a:pt x="18430" y="5209"/>
                </a:cubicBezTo>
                <a:cubicBezTo>
                  <a:pt x="18430" y="5226"/>
                  <a:pt x="18430" y="5242"/>
                  <a:pt x="18430" y="5259"/>
                </a:cubicBezTo>
              </a:path>
              <a:path w="3498" h="4590">
                <a:moveTo>
                  <a:pt x="16148" y="8806"/>
                </a:moveTo>
                <a:cubicBezTo>
                  <a:pt x="16219" y="8806"/>
                  <a:pt x="16332" y="8778"/>
                  <a:pt x="16396" y="8756"/>
                </a:cubicBezTo>
                <a:cubicBezTo>
                  <a:pt x="16419" y="8733"/>
                  <a:pt x="16427" y="8722"/>
                  <a:pt x="16421" y="8756"/>
                </a:cubicBezTo>
              </a:path>
              <a:path w="3498" h="4590">
                <a:moveTo>
                  <a:pt x="16669" y="8483"/>
                </a:moveTo>
                <a:cubicBezTo>
                  <a:pt x="16732" y="8600"/>
                  <a:pt x="16707" y="8672"/>
                  <a:pt x="16694" y="8806"/>
                </a:cubicBezTo>
                <a:cubicBezTo>
                  <a:pt x="16845" y="8806"/>
                  <a:pt x="16919" y="8795"/>
                  <a:pt x="17041" y="8706"/>
                </a:cubicBezTo>
              </a:path>
              <a:path w="3498" h="4590">
                <a:moveTo>
                  <a:pt x="17090" y="8334"/>
                </a:moveTo>
                <a:cubicBezTo>
                  <a:pt x="17099" y="8559"/>
                  <a:pt x="17147" y="8804"/>
                  <a:pt x="17115" y="9029"/>
                </a:cubicBezTo>
                <a:cubicBezTo>
                  <a:pt x="17107" y="9046"/>
                  <a:pt x="17098" y="9062"/>
                  <a:pt x="17090" y="9079"/>
                </a:cubicBezTo>
              </a:path>
              <a:path w="3498" h="4590">
                <a:moveTo>
                  <a:pt x="17537" y="9128"/>
                </a:moveTo>
                <a:cubicBezTo>
                  <a:pt x="17614" y="8898"/>
                  <a:pt x="17652" y="8680"/>
                  <a:pt x="17636" y="8434"/>
                </a:cubicBezTo>
                <a:cubicBezTo>
                  <a:pt x="17629" y="8328"/>
                  <a:pt x="17584" y="8298"/>
                  <a:pt x="17562" y="8210"/>
                </a:cubicBezTo>
                <a:cubicBezTo>
                  <a:pt x="17562" y="8202"/>
                  <a:pt x="17562" y="8194"/>
                  <a:pt x="17562" y="8186"/>
                </a:cubicBezTo>
                <a:cubicBezTo>
                  <a:pt x="17719" y="8177"/>
                  <a:pt x="17875" y="8172"/>
                  <a:pt x="18033" y="8161"/>
                </a:cubicBezTo>
                <a:cubicBezTo>
                  <a:pt x="18357" y="8138"/>
                  <a:pt x="18675" y="8056"/>
                  <a:pt x="19000" y="8037"/>
                </a:cubicBezTo>
                <a:cubicBezTo>
                  <a:pt x="19185" y="8026"/>
                  <a:pt x="19364" y="8007"/>
                  <a:pt x="19546" y="7987"/>
                </a:cubicBezTo>
                <a:cubicBezTo>
                  <a:pt x="19588" y="7987"/>
                  <a:pt x="19596" y="7987"/>
                  <a:pt x="19621" y="7987"/>
                </a:cubicBezTo>
              </a:path>
              <a:path w="3498" h="4590">
                <a:moveTo>
                  <a:pt x="18008" y="8558"/>
                </a:moveTo>
                <a:cubicBezTo>
                  <a:pt x="18106" y="8558"/>
                  <a:pt x="18186" y="8547"/>
                  <a:pt x="18281" y="8533"/>
                </a:cubicBezTo>
              </a:path>
              <a:path w="3498" h="4590">
                <a:moveTo>
                  <a:pt x="18529" y="8359"/>
                </a:moveTo>
                <a:cubicBezTo>
                  <a:pt x="18602" y="8335"/>
                  <a:pt x="18761" y="8255"/>
                  <a:pt x="18827" y="8334"/>
                </a:cubicBezTo>
                <a:cubicBezTo>
                  <a:pt x="18924" y="8450"/>
                  <a:pt x="18757" y="8539"/>
                  <a:pt x="18678" y="8582"/>
                </a:cubicBezTo>
                <a:cubicBezTo>
                  <a:pt x="18670" y="8574"/>
                  <a:pt x="18661" y="8566"/>
                  <a:pt x="18653" y="8558"/>
                </a:cubicBezTo>
                <a:cubicBezTo>
                  <a:pt x="18778" y="8531"/>
                  <a:pt x="18988" y="8488"/>
                  <a:pt x="18926" y="8706"/>
                </a:cubicBezTo>
                <a:cubicBezTo>
                  <a:pt x="18896" y="8813"/>
                  <a:pt x="18625" y="9051"/>
                  <a:pt x="18529" y="8880"/>
                </a:cubicBezTo>
                <a:cubicBezTo>
                  <a:pt x="18529" y="8847"/>
                  <a:pt x="18529" y="8814"/>
                  <a:pt x="18529" y="8781"/>
                </a:cubicBezTo>
              </a:path>
              <a:path w="3498" h="4590">
                <a:moveTo>
                  <a:pt x="19199" y="8285"/>
                </a:moveTo>
                <a:cubicBezTo>
                  <a:pt x="19199" y="8385"/>
                  <a:pt x="19177" y="8481"/>
                  <a:pt x="19174" y="8582"/>
                </a:cubicBezTo>
                <a:cubicBezTo>
                  <a:pt x="19171" y="8677"/>
                  <a:pt x="19158" y="8806"/>
                  <a:pt x="19298" y="8806"/>
                </a:cubicBezTo>
                <a:cubicBezTo>
                  <a:pt x="19404" y="8806"/>
                  <a:pt x="19595" y="8702"/>
                  <a:pt x="19645" y="8607"/>
                </a:cubicBezTo>
                <a:cubicBezTo>
                  <a:pt x="19645" y="8591"/>
                  <a:pt x="19645" y="8574"/>
                  <a:pt x="19645" y="8558"/>
                </a:cubicBezTo>
                <a:cubicBezTo>
                  <a:pt x="19576" y="8535"/>
                  <a:pt x="19450" y="8499"/>
                  <a:pt x="19397" y="8582"/>
                </a:cubicBezTo>
                <a:cubicBezTo>
                  <a:pt x="19366" y="8631"/>
                  <a:pt x="19334" y="8730"/>
                  <a:pt x="19372" y="8781"/>
                </a:cubicBezTo>
                <a:cubicBezTo>
                  <a:pt x="19380" y="8781"/>
                  <a:pt x="19389" y="8781"/>
                  <a:pt x="19397" y="8781"/>
                </a:cubicBezTo>
              </a:path>
              <a:path w="3498" h="4590">
                <a:moveTo>
                  <a:pt x="19323" y="7392"/>
                </a:moveTo>
                <a:cubicBezTo>
                  <a:pt x="19386" y="7350"/>
                  <a:pt x="19302" y="7223"/>
                  <a:pt x="19248" y="7169"/>
                </a:cubicBezTo>
                <a:cubicBezTo>
                  <a:pt x="19151" y="7072"/>
                  <a:pt x="19017" y="7277"/>
                  <a:pt x="19000" y="7342"/>
                </a:cubicBezTo>
                <a:cubicBezTo>
                  <a:pt x="19000" y="7443"/>
                  <a:pt x="18990" y="7464"/>
                  <a:pt x="19025" y="7516"/>
                </a:cubicBezTo>
                <a:cubicBezTo>
                  <a:pt x="19194" y="7529"/>
                  <a:pt x="19295" y="7448"/>
                  <a:pt x="19348" y="7268"/>
                </a:cubicBezTo>
                <a:cubicBezTo>
                  <a:pt x="19360" y="7229"/>
                  <a:pt x="19348" y="7152"/>
                  <a:pt x="19348" y="7193"/>
                </a:cubicBezTo>
                <a:cubicBezTo>
                  <a:pt x="19348" y="7369"/>
                  <a:pt x="19362" y="7540"/>
                  <a:pt x="19372" y="7714"/>
                </a:cubicBezTo>
                <a:cubicBezTo>
                  <a:pt x="19377" y="7804"/>
                  <a:pt x="19342" y="7845"/>
                  <a:pt x="1939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6240" y="1714680"/>
            <a:ext cx="830520" cy="1706400"/>
          </a:xfrm>
          <a:custGeom>
            <a:avLst/>
            <a:gdLst/>
            <a:ahLst/>
            <a:rect l="l" t="t" r="r" b="b"/>
            <a:pathLst>
              <a:path w="2308" h="4739">
                <a:moveTo>
                  <a:pt x="21233" y="6449"/>
                </a:moveTo>
                <a:cubicBezTo>
                  <a:pt x="21223" y="6506"/>
                  <a:pt x="21120" y="6735"/>
                  <a:pt x="21208" y="6772"/>
                </a:cubicBezTo>
                <a:cubicBezTo>
                  <a:pt x="21394" y="6851"/>
                  <a:pt x="21478" y="6726"/>
                  <a:pt x="21605" y="6623"/>
                </a:cubicBezTo>
              </a:path>
              <a:path w="2308" h="4739">
                <a:moveTo>
                  <a:pt x="21530" y="6375"/>
                </a:moveTo>
                <a:cubicBezTo>
                  <a:pt x="21495" y="6626"/>
                  <a:pt x="21494" y="6889"/>
                  <a:pt x="21481" y="7144"/>
                </a:cubicBezTo>
                <a:cubicBezTo>
                  <a:pt x="21481" y="7235"/>
                  <a:pt x="21481" y="7243"/>
                  <a:pt x="21481" y="7293"/>
                </a:cubicBezTo>
              </a:path>
              <a:path w="2308" h="4739">
                <a:moveTo>
                  <a:pt x="22671" y="4862"/>
                </a:moveTo>
                <a:cubicBezTo>
                  <a:pt x="22769" y="4788"/>
                  <a:pt x="22873" y="4779"/>
                  <a:pt x="22994" y="4762"/>
                </a:cubicBezTo>
                <a:cubicBezTo>
                  <a:pt x="22920" y="5074"/>
                  <a:pt x="22718" y="5234"/>
                  <a:pt x="22523" y="5482"/>
                </a:cubicBezTo>
                <a:cubicBezTo>
                  <a:pt x="22406" y="5631"/>
                  <a:pt x="22860" y="5404"/>
                  <a:pt x="23044" y="5358"/>
                </a:cubicBezTo>
              </a:path>
              <a:path w="2308" h="4739">
                <a:moveTo>
                  <a:pt x="22994" y="7590"/>
                </a:moveTo>
                <a:cubicBezTo>
                  <a:pt x="22884" y="7480"/>
                  <a:pt x="22710" y="7604"/>
                  <a:pt x="22597" y="7689"/>
                </a:cubicBezTo>
                <a:cubicBezTo>
                  <a:pt x="22322" y="7894"/>
                  <a:pt x="22879" y="7879"/>
                  <a:pt x="22969" y="7913"/>
                </a:cubicBezTo>
                <a:cubicBezTo>
                  <a:pt x="23002" y="7938"/>
                  <a:pt x="23035" y="7962"/>
                  <a:pt x="23068" y="7987"/>
                </a:cubicBezTo>
                <a:cubicBezTo>
                  <a:pt x="22989" y="8055"/>
                  <a:pt x="22441" y="8374"/>
                  <a:pt x="22622" y="8012"/>
                </a:cubicBezTo>
                <a:cubicBezTo>
                  <a:pt x="22759" y="7852"/>
                  <a:pt x="22796" y="7806"/>
                  <a:pt x="22895" y="7714"/>
                </a:cubicBezTo>
              </a:path>
              <a:path w="2308" h="4739">
                <a:moveTo>
                  <a:pt x="22027" y="8334"/>
                </a:moveTo>
                <a:cubicBezTo>
                  <a:pt x="22496" y="8293"/>
                  <a:pt x="22969" y="8204"/>
                  <a:pt x="23440" y="8260"/>
                </a:cubicBezTo>
                <a:cubicBezTo>
                  <a:pt x="23457" y="8268"/>
                  <a:pt x="23473" y="8277"/>
                  <a:pt x="23490" y="8285"/>
                </a:cubicBezTo>
              </a:path>
              <a:path w="2308" h="4739">
                <a:moveTo>
                  <a:pt x="22920" y="8855"/>
                </a:moveTo>
                <a:cubicBezTo>
                  <a:pt x="22898" y="8833"/>
                  <a:pt x="22889" y="8828"/>
                  <a:pt x="22895" y="8806"/>
                </a:cubicBezTo>
                <a:cubicBezTo>
                  <a:pt x="22895" y="8989"/>
                  <a:pt x="22912" y="9171"/>
                  <a:pt x="22944" y="9351"/>
                </a:cubicBezTo>
                <a:cubicBezTo>
                  <a:pt x="22956" y="9422"/>
                  <a:pt x="22969" y="9440"/>
                  <a:pt x="22969" y="9500"/>
                </a:cubicBezTo>
              </a:path>
              <a:path w="2308" h="4739">
                <a:moveTo>
                  <a:pt x="21828" y="5283"/>
                </a:moveTo>
                <a:cubicBezTo>
                  <a:pt x="21928" y="5198"/>
                  <a:pt x="22122" y="5204"/>
                  <a:pt x="22225" y="5135"/>
                </a:cubicBezTo>
                <a:cubicBezTo>
                  <a:pt x="22329" y="5065"/>
                  <a:pt x="21985" y="5148"/>
                  <a:pt x="21927" y="5259"/>
                </a:cubicBezTo>
                <a:cubicBezTo>
                  <a:pt x="22061" y="5205"/>
                  <a:pt x="22112" y="5183"/>
                  <a:pt x="2220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42240" y="1652760"/>
            <a:ext cx="160560" cy="27612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24606" y="4589"/>
                </a:moveTo>
                <a:cubicBezTo>
                  <a:pt x="24504" y="4647"/>
                  <a:pt x="24338" y="4681"/>
                  <a:pt x="24309" y="4787"/>
                </a:cubicBezTo>
                <a:cubicBezTo>
                  <a:pt x="24286" y="4871"/>
                  <a:pt x="24284" y="4929"/>
                  <a:pt x="24284" y="5011"/>
                </a:cubicBezTo>
                <a:cubicBezTo>
                  <a:pt x="24394" y="4989"/>
                  <a:pt x="24512" y="4920"/>
                  <a:pt x="24631" y="4936"/>
                </a:cubicBezTo>
                <a:cubicBezTo>
                  <a:pt x="24664" y="4953"/>
                  <a:pt x="24697" y="4969"/>
                  <a:pt x="24730" y="4986"/>
                </a:cubicBezTo>
                <a:cubicBezTo>
                  <a:pt x="24705" y="5134"/>
                  <a:pt x="24646" y="5376"/>
                  <a:pt x="24433" y="5358"/>
                </a:cubicBezTo>
                <a:cubicBezTo>
                  <a:pt x="24400" y="5341"/>
                  <a:pt x="24366" y="5325"/>
                  <a:pt x="24333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12080" y="2089080"/>
            <a:ext cx="776160" cy="536760"/>
          </a:xfrm>
          <a:custGeom>
            <a:avLst/>
            <a:gdLst/>
            <a:ahLst/>
            <a:rect l="l" t="t" r="r" b="b"/>
            <a:pathLst>
              <a:path w="2159" h="1490">
                <a:moveTo>
                  <a:pt x="22969" y="6499"/>
                </a:moveTo>
                <a:cubicBezTo>
                  <a:pt x="23027" y="6421"/>
                  <a:pt x="22949" y="6338"/>
                  <a:pt x="22870" y="6300"/>
                </a:cubicBezTo>
                <a:cubicBezTo>
                  <a:pt x="22675" y="6206"/>
                  <a:pt x="22540" y="6424"/>
                  <a:pt x="22547" y="6598"/>
                </a:cubicBezTo>
                <a:cubicBezTo>
                  <a:pt x="22560" y="6917"/>
                  <a:pt x="22928" y="6717"/>
                  <a:pt x="23019" y="6573"/>
                </a:cubicBezTo>
                <a:cubicBezTo>
                  <a:pt x="23042" y="6482"/>
                  <a:pt x="23053" y="6456"/>
                  <a:pt x="23019" y="6400"/>
                </a:cubicBezTo>
                <a:cubicBezTo>
                  <a:pt x="23057" y="6587"/>
                  <a:pt x="22984" y="6839"/>
                  <a:pt x="22969" y="7045"/>
                </a:cubicBezTo>
                <a:cubicBezTo>
                  <a:pt x="22969" y="7123"/>
                  <a:pt x="22984" y="7141"/>
                  <a:pt x="22944" y="7169"/>
                </a:cubicBezTo>
              </a:path>
              <a:path w="2159" h="1490">
                <a:moveTo>
                  <a:pt x="22126" y="7293"/>
                </a:moveTo>
                <a:cubicBezTo>
                  <a:pt x="22169" y="7076"/>
                  <a:pt x="22170" y="6856"/>
                  <a:pt x="22126" y="6623"/>
                </a:cubicBezTo>
                <a:cubicBezTo>
                  <a:pt x="22087" y="6419"/>
                  <a:pt x="22016" y="6189"/>
                  <a:pt x="22002" y="6003"/>
                </a:cubicBezTo>
                <a:cubicBezTo>
                  <a:pt x="22449" y="5890"/>
                  <a:pt x="22928" y="5883"/>
                  <a:pt x="23391" y="5854"/>
                </a:cubicBezTo>
                <a:cubicBezTo>
                  <a:pt x="23653" y="5838"/>
                  <a:pt x="24251" y="5633"/>
                  <a:pt x="24110" y="5854"/>
                </a:cubicBezTo>
                <a:cubicBezTo>
                  <a:pt x="24060" y="5887"/>
                  <a:pt x="24011" y="5920"/>
                  <a:pt x="23961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49920" y="1963800"/>
            <a:ext cx="1073160" cy="546120"/>
          </a:xfrm>
          <a:custGeom>
            <a:avLst/>
            <a:gdLst/>
            <a:ahLst/>
            <a:rect l="l" t="t" r="r" b="b"/>
            <a:pathLst>
              <a:path w="2978" h="1514">
                <a:moveTo>
                  <a:pt x="17587" y="6226"/>
                </a:moveTo>
                <a:cubicBezTo>
                  <a:pt x="17486" y="6277"/>
                  <a:pt x="17684" y="6102"/>
                  <a:pt x="17785" y="6052"/>
                </a:cubicBezTo>
                <a:cubicBezTo>
                  <a:pt x="17818" y="6044"/>
                  <a:pt x="17851" y="6036"/>
                  <a:pt x="17884" y="6028"/>
                </a:cubicBezTo>
                <a:cubicBezTo>
                  <a:pt x="18001" y="6230"/>
                  <a:pt x="17896" y="6311"/>
                  <a:pt x="17735" y="6474"/>
                </a:cubicBezTo>
                <a:cubicBezTo>
                  <a:pt x="17727" y="6482"/>
                  <a:pt x="17719" y="6491"/>
                  <a:pt x="17711" y="6499"/>
                </a:cubicBezTo>
                <a:cubicBezTo>
                  <a:pt x="17803" y="6417"/>
                  <a:pt x="18018" y="6352"/>
                  <a:pt x="18008" y="6573"/>
                </a:cubicBezTo>
                <a:cubicBezTo>
                  <a:pt x="17998" y="6800"/>
                  <a:pt x="17633" y="6895"/>
                  <a:pt x="17462" y="6821"/>
                </a:cubicBezTo>
                <a:cubicBezTo>
                  <a:pt x="17433" y="6732"/>
                  <a:pt x="17434" y="6696"/>
                  <a:pt x="17512" y="6648"/>
                </a:cubicBezTo>
              </a:path>
              <a:path w="2978" h="1514">
                <a:moveTo>
                  <a:pt x="18306" y="5804"/>
                </a:moveTo>
                <a:cubicBezTo>
                  <a:pt x="18306" y="5947"/>
                  <a:pt x="18288" y="6084"/>
                  <a:pt x="18281" y="6226"/>
                </a:cubicBezTo>
                <a:cubicBezTo>
                  <a:pt x="18274" y="6380"/>
                  <a:pt x="18256" y="6652"/>
                  <a:pt x="18455" y="6697"/>
                </a:cubicBezTo>
                <a:cubicBezTo>
                  <a:pt x="18623" y="6735"/>
                  <a:pt x="18889" y="6560"/>
                  <a:pt x="18951" y="6400"/>
                </a:cubicBezTo>
                <a:cubicBezTo>
                  <a:pt x="18951" y="6367"/>
                  <a:pt x="18951" y="6333"/>
                  <a:pt x="18951" y="6300"/>
                </a:cubicBezTo>
                <a:cubicBezTo>
                  <a:pt x="18796" y="6239"/>
                  <a:pt x="18700" y="6243"/>
                  <a:pt x="18604" y="6400"/>
                </a:cubicBezTo>
                <a:cubicBezTo>
                  <a:pt x="18530" y="6520"/>
                  <a:pt x="18561" y="6580"/>
                  <a:pt x="18604" y="6697"/>
                </a:cubicBezTo>
              </a:path>
              <a:path w="2978" h="1514">
                <a:moveTo>
                  <a:pt x="17140" y="6970"/>
                </a:moveTo>
                <a:cubicBezTo>
                  <a:pt x="17106" y="6822"/>
                  <a:pt x="17084" y="6676"/>
                  <a:pt x="17066" y="6524"/>
                </a:cubicBezTo>
                <a:cubicBezTo>
                  <a:pt x="17041" y="6308"/>
                  <a:pt x="17041" y="6097"/>
                  <a:pt x="17041" y="5879"/>
                </a:cubicBezTo>
                <a:cubicBezTo>
                  <a:pt x="17041" y="5814"/>
                  <a:pt x="17028" y="5766"/>
                  <a:pt x="17016" y="5705"/>
                </a:cubicBezTo>
                <a:cubicBezTo>
                  <a:pt x="17185" y="5645"/>
                  <a:pt x="17353" y="5582"/>
                  <a:pt x="17537" y="5556"/>
                </a:cubicBezTo>
                <a:cubicBezTo>
                  <a:pt x="17890" y="5505"/>
                  <a:pt x="18271" y="5466"/>
                  <a:pt x="18628" y="5457"/>
                </a:cubicBezTo>
                <a:cubicBezTo>
                  <a:pt x="18744" y="5454"/>
                  <a:pt x="18857" y="5463"/>
                  <a:pt x="18876" y="5482"/>
                </a:cubicBezTo>
              </a:path>
              <a:path w="2978" h="1514">
                <a:moveTo>
                  <a:pt x="16123" y="6152"/>
                </a:moveTo>
                <a:cubicBezTo>
                  <a:pt x="16073" y="6251"/>
                  <a:pt x="16031" y="6358"/>
                  <a:pt x="15974" y="6449"/>
                </a:cubicBezTo>
                <a:cubicBezTo>
                  <a:pt x="16110" y="6469"/>
                  <a:pt x="16235" y="6470"/>
                  <a:pt x="16371" y="6424"/>
                </a:cubicBezTo>
                <a:cubicBezTo>
                  <a:pt x="16379" y="6416"/>
                  <a:pt x="16388" y="6408"/>
                  <a:pt x="16396" y="6400"/>
                </a:cubicBezTo>
              </a:path>
              <a:path w="2978" h="1514">
                <a:moveTo>
                  <a:pt x="16371" y="5978"/>
                </a:moveTo>
                <a:cubicBezTo>
                  <a:pt x="16371" y="6187"/>
                  <a:pt x="16369" y="6390"/>
                  <a:pt x="16346" y="6598"/>
                </a:cubicBezTo>
                <a:cubicBezTo>
                  <a:pt x="16334" y="6710"/>
                  <a:pt x="16321" y="6788"/>
                  <a:pt x="16321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2874960"/>
            <a:ext cx="10800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21903" y="8062"/>
                </a:moveTo>
                <a:cubicBezTo>
                  <a:pt x="22028" y="7999"/>
                  <a:pt x="22091" y="7978"/>
                  <a:pt x="2220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77120" y="2241720"/>
            <a:ext cx="563760" cy="1428480"/>
          </a:xfrm>
          <a:custGeom>
            <a:avLst/>
            <a:gdLst/>
            <a:ahLst/>
            <a:rect l="l" t="t" r="r" b="b"/>
            <a:pathLst>
              <a:path w="1564" h="3970">
                <a:moveTo>
                  <a:pt x="24036" y="6325"/>
                </a:moveTo>
                <a:cubicBezTo>
                  <a:pt x="24128" y="6286"/>
                  <a:pt x="24466" y="6141"/>
                  <a:pt x="24557" y="6226"/>
                </a:cubicBezTo>
                <a:cubicBezTo>
                  <a:pt x="24540" y="6251"/>
                  <a:pt x="24524" y="6275"/>
                  <a:pt x="24507" y="6300"/>
                </a:cubicBezTo>
              </a:path>
              <a:path w="1564" h="3970">
                <a:moveTo>
                  <a:pt x="22994" y="9996"/>
                </a:moveTo>
                <a:cubicBezTo>
                  <a:pt x="23107" y="9912"/>
                  <a:pt x="23157" y="9884"/>
                  <a:pt x="23267" y="9897"/>
                </a:cubicBezTo>
              </a:path>
              <a:path w="1564" h="3970">
                <a:moveTo>
                  <a:pt x="23093" y="10195"/>
                </a:moveTo>
                <a:cubicBezTo>
                  <a:pt x="23418" y="10115"/>
                  <a:pt x="23728" y="10059"/>
                  <a:pt x="2406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40840" y="1697040"/>
            <a:ext cx="339480" cy="339840"/>
          </a:xfrm>
          <a:custGeom>
            <a:avLst/>
            <a:gdLst/>
            <a:ahLst/>
            <a:rect l="l" t="t" r="r" b="b"/>
            <a:pathLst>
              <a:path w="943" h="943">
                <a:moveTo>
                  <a:pt x="23168" y="5556"/>
                </a:moveTo>
                <a:cubicBezTo>
                  <a:pt x="23168" y="5617"/>
                  <a:pt x="23158" y="5633"/>
                  <a:pt x="23192" y="5655"/>
                </a:cubicBezTo>
                <a:cubicBezTo>
                  <a:pt x="23209" y="5634"/>
                  <a:pt x="23272" y="5511"/>
                  <a:pt x="23217" y="5507"/>
                </a:cubicBezTo>
                <a:cubicBezTo>
                  <a:pt x="23215" y="5507"/>
                  <a:pt x="23239" y="5548"/>
                  <a:pt x="23242" y="5556"/>
                </a:cubicBezTo>
                <a:cubicBezTo>
                  <a:pt x="23242" y="5528"/>
                  <a:pt x="23240" y="5517"/>
                  <a:pt x="23217" y="5507"/>
                </a:cubicBezTo>
              </a:path>
              <a:path w="943" h="943">
                <a:moveTo>
                  <a:pt x="23614" y="4911"/>
                </a:moveTo>
                <a:cubicBezTo>
                  <a:pt x="23722" y="4857"/>
                  <a:pt x="23842" y="4772"/>
                  <a:pt x="23961" y="4713"/>
                </a:cubicBezTo>
                <a:cubicBezTo>
                  <a:pt x="24071" y="4912"/>
                  <a:pt x="23918" y="5104"/>
                  <a:pt x="23788" y="5283"/>
                </a:cubicBezTo>
                <a:cubicBezTo>
                  <a:pt x="23732" y="5339"/>
                  <a:pt x="23707" y="5337"/>
                  <a:pt x="23713" y="5383"/>
                </a:cubicBezTo>
                <a:cubicBezTo>
                  <a:pt x="23846" y="5354"/>
                  <a:pt x="23981" y="5309"/>
                  <a:pt x="24110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75760" y="2241720"/>
            <a:ext cx="519120" cy="588960"/>
          </a:xfrm>
          <a:custGeom>
            <a:avLst/>
            <a:gdLst/>
            <a:ahLst/>
            <a:rect l="l" t="t" r="r" b="b"/>
            <a:pathLst>
              <a:path w="1439" h="1638">
                <a:moveTo>
                  <a:pt x="24135" y="6548"/>
                </a:moveTo>
                <a:cubicBezTo>
                  <a:pt x="24325" y="6485"/>
                  <a:pt x="24512" y="6427"/>
                  <a:pt x="24705" y="6375"/>
                </a:cubicBezTo>
              </a:path>
              <a:path w="1439" h="1638">
                <a:moveTo>
                  <a:pt x="23316" y="7020"/>
                </a:moveTo>
                <a:cubicBezTo>
                  <a:pt x="23266" y="7070"/>
                  <a:pt x="23249" y="7089"/>
                  <a:pt x="23267" y="7144"/>
                </a:cubicBezTo>
                <a:cubicBezTo>
                  <a:pt x="23350" y="7123"/>
                  <a:pt x="23348" y="7060"/>
                  <a:pt x="23341" y="7069"/>
                </a:cubicBezTo>
                <a:cubicBezTo>
                  <a:pt x="23341" y="7077"/>
                  <a:pt x="23341" y="7086"/>
                  <a:pt x="23341" y="7094"/>
                </a:cubicBezTo>
              </a:path>
              <a:path w="1439" h="1638">
                <a:moveTo>
                  <a:pt x="23688" y="6251"/>
                </a:moveTo>
                <a:cubicBezTo>
                  <a:pt x="23551" y="6250"/>
                  <a:pt x="23459" y="6448"/>
                  <a:pt x="23490" y="6623"/>
                </a:cubicBezTo>
                <a:cubicBezTo>
                  <a:pt x="23507" y="6648"/>
                  <a:pt x="23523" y="6672"/>
                  <a:pt x="23540" y="6697"/>
                </a:cubicBezTo>
                <a:cubicBezTo>
                  <a:pt x="23652" y="6652"/>
                  <a:pt x="24020" y="6416"/>
                  <a:pt x="23738" y="6276"/>
                </a:cubicBezTo>
                <a:cubicBezTo>
                  <a:pt x="23688" y="6276"/>
                  <a:pt x="23639" y="6276"/>
                  <a:pt x="23589" y="6276"/>
                </a:cubicBezTo>
              </a:path>
              <a:path w="1439" h="1638">
                <a:moveTo>
                  <a:pt x="23664" y="6672"/>
                </a:moveTo>
                <a:cubicBezTo>
                  <a:pt x="23683" y="6852"/>
                  <a:pt x="23715" y="7036"/>
                  <a:pt x="23738" y="7218"/>
                </a:cubicBezTo>
                <a:cubicBezTo>
                  <a:pt x="23765" y="7436"/>
                  <a:pt x="23775" y="7646"/>
                  <a:pt x="23812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5960" y="3071880"/>
            <a:ext cx="243000" cy="714240"/>
          </a:xfrm>
          <a:custGeom>
            <a:avLst/>
            <a:gdLst/>
            <a:ahLst/>
            <a:rect l="l" t="t" r="r" b="b"/>
            <a:pathLst>
              <a:path w="671" h="1985">
                <a:moveTo>
                  <a:pt x="23862" y="8533"/>
                </a:moveTo>
                <a:cubicBezTo>
                  <a:pt x="23735" y="8559"/>
                  <a:pt x="23702" y="8767"/>
                  <a:pt x="23713" y="8880"/>
                </a:cubicBezTo>
                <a:cubicBezTo>
                  <a:pt x="23760" y="8997"/>
                  <a:pt x="23770" y="9035"/>
                  <a:pt x="23862" y="9054"/>
                </a:cubicBezTo>
                <a:cubicBezTo>
                  <a:pt x="23992" y="8962"/>
                  <a:pt x="24273" y="8690"/>
                  <a:pt x="23937" y="8632"/>
                </a:cubicBezTo>
                <a:cubicBezTo>
                  <a:pt x="23887" y="8640"/>
                  <a:pt x="23838" y="8649"/>
                  <a:pt x="23788" y="8657"/>
                </a:cubicBezTo>
              </a:path>
              <a:path w="671" h="1985">
                <a:moveTo>
                  <a:pt x="24036" y="9327"/>
                </a:moveTo>
                <a:cubicBezTo>
                  <a:pt x="23863" y="9365"/>
                  <a:pt x="23800" y="9408"/>
                  <a:pt x="23713" y="9550"/>
                </a:cubicBezTo>
                <a:cubicBezTo>
                  <a:pt x="23821" y="9593"/>
                  <a:pt x="24207" y="9640"/>
                  <a:pt x="24036" y="9823"/>
                </a:cubicBezTo>
                <a:cubicBezTo>
                  <a:pt x="23931" y="9886"/>
                  <a:pt x="23910" y="9904"/>
                  <a:pt x="23837" y="9922"/>
                </a:cubicBezTo>
                <a:cubicBezTo>
                  <a:pt x="23882" y="9751"/>
                  <a:pt x="23963" y="9641"/>
                  <a:pt x="24085" y="9500"/>
                </a:cubicBezTo>
              </a:path>
              <a:path w="671" h="1985">
                <a:moveTo>
                  <a:pt x="23986" y="10294"/>
                </a:moveTo>
                <a:cubicBezTo>
                  <a:pt x="24149" y="10240"/>
                  <a:pt x="24225" y="10193"/>
                  <a:pt x="24383" y="10220"/>
                </a:cubicBezTo>
                <a:cubicBezTo>
                  <a:pt x="24286" y="10334"/>
                  <a:pt x="24024" y="10343"/>
                  <a:pt x="24036" y="10492"/>
                </a:cubicBezTo>
                <a:cubicBezTo>
                  <a:pt x="24052" y="10500"/>
                  <a:pt x="24069" y="10509"/>
                  <a:pt x="24085" y="10517"/>
                </a:cubicBezTo>
                <a:cubicBezTo>
                  <a:pt x="24187" y="10509"/>
                  <a:pt x="24273" y="10500"/>
                  <a:pt x="24358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78880" y="2500200"/>
            <a:ext cx="304920" cy="1285920"/>
          </a:xfrm>
          <a:custGeom>
            <a:avLst/>
            <a:gdLst/>
            <a:ahLst/>
            <a:rect l="l" t="t" r="r" b="b"/>
            <a:pathLst>
              <a:path w="845" h="3573">
                <a:moveTo>
                  <a:pt x="24358" y="6945"/>
                </a:moveTo>
                <a:cubicBezTo>
                  <a:pt x="24214" y="6979"/>
                  <a:pt x="23997" y="7158"/>
                  <a:pt x="24135" y="7342"/>
                </a:cubicBezTo>
                <a:cubicBezTo>
                  <a:pt x="24261" y="7511"/>
                  <a:pt x="24670" y="7353"/>
                  <a:pt x="24532" y="7144"/>
                </a:cubicBezTo>
                <a:cubicBezTo>
                  <a:pt x="24394" y="7030"/>
                  <a:pt x="24360" y="6988"/>
                  <a:pt x="24234" y="7020"/>
                </a:cubicBezTo>
              </a:path>
              <a:path w="845" h="3573">
                <a:moveTo>
                  <a:pt x="24457" y="7615"/>
                </a:moveTo>
                <a:cubicBezTo>
                  <a:pt x="24501" y="8054"/>
                  <a:pt x="24560" y="8491"/>
                  <a:pt x="24606" y="8930"/>
                </a:cubicBezTo>
                <a:cubicBezTo>
                  <a:pt x="24626" y="9111"/>
                  <a:pt x="24635" y="9144"/>
                  <a:pt x="24631" y="9252"/>
                </a:cubicBezTo>
              </a:path>
              <a:path w="845" h="3573">
                <a:moveTo>
                  <a:pt x="24805" y="10220"/>
                </a:moveTo>
                <a:cubicBezTo>
                  <a:pt x="24773" y="10125"/>
                  <a:pt x="24693" y="10297"/>
                  <a:pt x="24681" y="10319"/>
                </a:cubicBezTo>
                <a:cubicBezTo>
                  <a:pt x="24636" y="10408"/>
                  <a:pt x="24616" y="10431"/>
                  <a:pt x="24656" y="10492"/>
                </a:cubicBezTo>
                <a:cubicBezTo>
                  <a:pt x="24784" y="10492"/>
                  <a:pt x="25069" y="10404"/>
                  <a:pt x="24929" y="10195"/>
                </a:cubicBezTo>
                <a:cubicBezTo>
                  <a:pt x="24810" y="10136"/>
                  <a:pt x="24756" y="10122"/>
                  <a:pt x="24656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3160" y="3956040"/>
            <a:ext cx="196920" cy="322200"/>
          </a:xfrm>
          <a:custGeom>
            <a:avLst/>
            <a:gdLst/>
            <a:ahLst/>
            <a:rect l="l" t="t" r="r" b="b"/>
            <a:pathLst>
              <a:path w="547" h="894">
                <a:moveTo>
                  <a:pt x="19025" y="11336"/>
                </a:moveTo>
                <a:cubicBezTo>
                  <a:pt x="19011" y="11241"/>
                  <a:pt x="18947" y="11061"/>
                  <a:pt x="18852" y="11013"/>
                </a:cubicBezTo>
                <a:cubicBezTo>
                  <a:pt x="18679" y="10926"/>
                  <a:pt x="18431" y="11040"/>
                  <a:pt x="18479" y="11261"/>
                </a:cubicBezTo>
                <a:cubicBezTo>
                  <a:pt x="18504" y="11294"/>
                  <a:pt x="18529" y="11328"/>
                  <a:pt x="18554" y="11361"/>
                </a:cubicBezTo>
                <a:cubicBezTo>
                  <a:pt x="18766" y="11381"/>
                  <a:pt x="18865" y="11378"/>
                  <a:pt x="18951" y="11162"/>
                </a:cubicBezTo>
                <a:cubicBezTo>
                  <a:pt x="18959" y="11129"/>
                  <a:pt x="18968" y="11096"/>
                  <a:pt x="18976" y="11063"/>
                </a:cubicBezTo>
                <a:cubicBezTo>
                  <a:pt x="18976" y="10929"/>
                  <a:pt x="18973" y="11276"/>
                  <a:pt x="18976" y="11410"/>
                </a:cubicBezTo>
                <a:cubicBezTo>
                  <a:pt x="18980" y="11578"/>
                  <a:pt x="18974" y="11721"/>
                  <a:pt x="19000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5240" y="4037040"/>
            <a:ext cx="12564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7735" y="11311"/>
                </a:moveTo>
                <a:cubicBezTo>
                  <a:pt x="17672" y="11311"/>
                  <a:pt x="17909" y="11292"/>
                  <a:pt x="17934" y="11286"/>
                </a:cubicBezTo>
                <a:cubicBezTo>
                  <a:pt x="17967" y="11278"/>
                  <a:pt x="18000" y="11269"/>
                  <a:pt x="18033" y="11261"/>
                </a:cubicBezTo>
                <a:cubicBezTo>
                  <a:pt x="17925" y="11275"/>
                  <a:pt x="17819" y="11301"/>
                  <a:pt x="17711" y="11311"/>
                </a:cubicBezTo>
                <a:cubicBezTo>
                  <a:pt x="17802" y="11265"/>
                  <a:pt x="17930" y="11238"/>
                  <a:pt x="18033" y="11212"/>
                </a:cubicBezTo>
                <a:cubicBezTo>
                  <a:pt x="18058" y="11212"/>
                  <a:pt x="18066" y="11212"/>
                  <a:pt x="1805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3200" y="396396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23118" y="11782"/>
                </a:moveTo>
                <a:cubicBezTo>
                  <a:pt x="23310" y="11742"/>
                  <a:pt x="23674" y="11564"/>
                  <a:pt x="23862" y="11609"/>
                </a:cubicBezTo>
                <a:cubicBezTo>
                  <a:pt x="23862" y="11625"/>
                  <a:pt x="23862" y="11642"/>
                  <a:pt x="23862" y="11658"/>
                </a:cubicBezTo>
              </a:path>
              <a:path w="2035" h="770">
                <a:moveTo>
                  <a:pt x="24581" y="11187"/>
                </a:moveTo>
                <a:cubicBezTo>
                  <a:pt x="24801" y="11087"/>
                  <a:pt x="24918" y="11038"/>
                  <a:pt x="2515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4313160"/>
            <a:ext cx="1625400" cy="482760"/>
          </a:xfrm>
          <a:custGeom>
            <a:avLst/>
            <a:gdLst/>
            <a:ahLst/>
            <a:rect l="l" t="t" r="r" b="b"/>
            <a:pathLst>
              <a:path w="4516" h="1340">
                <a:moveTo>
                  <a:pt x="17165" y="12750"/>
                </a:moveTo>
                <a:cubicBezTo>
                  <a:pt x="17287" y="12750"/>
                  <a:pt x="17417" y="12704"/>
                  <a:pt x="17537" y="12725"/>
                </a:cubicBezTo>
                <a:cubicBezTo>
                  <a:pt x="17545" y="12733"/>
                  <a:pt x="17554" y="12742"/>
                  <a:pt x="17562" y="12750"/>
                </a:cubicBezTo>
              </a:path>
              <a:path w="4516" h="1340">
                <a:moveTo>
                  <a:pt x="17934" y="12378"/>
                </a:moveTo>
                <a:cubicBezTo>
                  <a:pt x="17997" y="12373"/>
                  <a:pt x="18507" y="12321"/>
                  <a:pt x="18331" y="12526"/>
                </a:cubicBezTo>
                <a:cubicBezTo>
                  <a:pt x="18268" y="12600"/>
                  <a:pt x="18203" y="12692"/>
                  <a:pt x="18132" y="12626"/>
                </a:cubicBezTo>
                <a:cubicBezTo>
                  <a:pt x="18289" y="12648"/>
                  <a:pt x="18333" y="12645"/>
                  <a:pt x="18405" y="12725"/>
                </a:cubicBezTo>
                <a:cubicBezTo>
                  <a:pt x="18375" y="12860"/>
                  <a:pt x="18211" y="13094"/>
                  <a:pt x="18008" y="12973"/>
                </a:cubicBezTo>
                <a:cubicBezTo>
                  <a:pt x="18008" y="12948"/>
                  <a:pt x="18008" y="12923"/>
                  <a:pt x="18008" y="12898"/>
                </a:cubicBezTo>
              </a:path>
              <a:path w="4516" h="1340">
                <a:moveTo>
                  <a:pt x="18678" y="12204"/>
                </a:moveTo>
                <a:cubicBezTo>
                  <a:pt x="18678" y="12378"/>
                  <a:pt x="18639" y="12551"/>
                  <a:pt x="18653" y="12725"/>
                </a:cubicBezTo>
                <a:cubicBezTo>
                  <a:pt x="18676" y="13010"/>
                  <a:pt x="18928" y="12936"/>
                  <a:pt x="19100" y="12824"/>
                </a:cubicBezTo>
                <a:cubicBezTo>
                  <a:pt x="19225" y="12719"/>
                  <a:pt x="19267" y="12708"/>
                  <a:pt x="19273" y="12601"/>
                </a:cubicBezTo>
                <a:cubicBezTo>
                  <a:pt x="19113" y="12573"/>
                  <a:pt x="18907" y="12555"/>
                  <a:pt x="18926" y="12799"/>
                </a:cubicBezTo>
                <a:cubicBezTo>
                  <a:pt x="18965" y="12875"/>
                  <a:pt x="18964" y="12890"/>
                  <a:pt x="19000" y="12923"/>
                </a:cubicBezTo>
              </a:path>
              <a:path w="4516" h="1340">
                <a:moveTo>
                  <a:pt x="16718" y="13295"/>
                </a:moveTo>
                <a:cubicBezTo>
                  <a:pt x="16658" y="13172"/>
                  <a:pt x="16660" y="13084"/>
                  <a:pt x="16644" y="12948"/>
                </a:cubicBezTo>
                <a:cubicBezTo>
                  <a:pt x="16613" y="12685"/>
                  <a:pt x="16558" y="12418"/>
                  <a:pt x="16545" y="12154"/>
                </a:cubicBezTo>
                <a:cubicBezTo>
                  <a:pt x="16545" y="12146"/>
                  <a:pt x="16545" y="12137"/>
                  <a:pt x="16545" y="12129"/>
                </a:cubicBezTo>
                <a:cubicBezTo>
                  <a:pt x="16727" y="12103"/>
                  <a:pt x="16972" y="12091"/>
                  <a:pt x="17165" y="12080"/>
                </a:cubicBezTo>
                <a:cubicBezTo>
                  <a:pt x="17993" y="12035"/>
                  <a:pt x="18818" y="11992"/>
                  <a:pt x="19645" y="12005"/>
                </a:cubicBezTo>
                <a:cubicBezTo>
                  <a:pt x="19894" y="12009"/>
                  <a:pt x="19826" y="12007"/>
                  <a:pt x="19968" y="12030"/>
                </a:cubicBezTo>
              </a:path>
              <a:path w="4516" h="1340">
                <a:moveTo>
                  <a:pt x="15453" y="12576"/>
                </a:moveTo>
                <a:cubicBezTo>
                  <a:pt x="15465" y="12693"/>
                  <a:pt x="15469" y="12712"/>
                  <a:pt x="15453" y="12824"/>
                </a:cubicBezTo>
                <a:cubicBezTo>
                  <a:pt x="15532" y="12856"/>
                  <a:pt x="15717" y="12824"/>
                  <a:pt x="15825" y="12824"/>
                </a:cubicBezTo>
                <a:cubicBezTo>
                  <a:pt x="15850" y="12824"/>
                  <a:pt x="15875" y="12824"/>
                  <a:pt x="15900" y="12824"/>
                </a:cubicBezTo>
              </a:path>
              <a:path w="4516" h="1340">
                <a:moveTo>
                  <a:pt x="15900" y="12427"/>
                </a:moveTo>
                <a:cubicBezTo>
                  <a:pt x="15900" y="12629"/>
                  <a:pt x="15937" y="12822"/>
                  <a:pt x="15949" y="13022"/>
                </a:cubicBezTo>
                <a:cubicBezTo>
                  <a:pt x="15949" y="13146"/>
                  <a:pt x="15949" y="13171"/>
                  <a:pt x="1594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88160" y="3963960"/>
            <a:ext cx="876240" cy="617400"/>
          </a:xfrm>
          <a:custGeom>
            <a:avLst/>
            <a:gdLst/>
            <a:ahLst/>
            <a:rect l="l" t="t" r="r" b="b"/>
            <a:pathLst>
              <a:path w="2432" h="1713">
                <a:moveTo>
                  <a:pt x="22275" y="11609"/>
                </a:moveTo>
                <a:cubicBezTo>
                  <a:pt x="22466" y="11521"/>
                  <a:pt x="22544" y="11501"/>
                  <a:pt x="22746" y="11534"/>
                </a:cubicBezTo>
                <a:cubicBezTo>
                  <a:pt x="22677" y="11891"/>
                  <a:pt x="22450" y="11979"/>
                  <a:pt x="22225" y="12254"/>
                </a:cubicBezTo>
                <a:cubicBezTo>
                  <a:pt x="22208" y="12287"/>
                  <a:pt x="22192" y="12320"/>
                  <a:pt x="22175" y="12353"/>
                </a:cubicBezTo>
                <a:cubicBezTo>
                  <a:pt x="22382" y="12297"/>
                  <a:pt x="22590" y="12240"/>
                  <a:pt x="22796" y="12179"/>
                </a:cubicBezTo>
              </a:path>
              <a:path w="2432" h="1713">
                <a:moveTo>
                  <a:pt x="23416" y="11013"/>
                </a:moveTo>
                <a:cubicBezTo>
                  <a:pt x="23416" y="11175"/>
                  <a:pt x="23447" y="11351"/>
                  <a:pt x="23440" y="11509"/>
                </a:cubicBezTo>
                <a:cubicBezTo>
                  <a:pt x="23432" y="11534"/>
                  <a:pt x="23424" y="11559"/>
                  <a:pt x="23416" y="11584"/>
                </a:cubicBezTo>
              </a:path>
              <a:path w="2432" h="1713">
                <a:moveTo>
                  <a:pt x="23416" y="11981"/>
                </a:moveTo>
                <a:cubicBezTo>
                  <a:pt x="23399" y="12063"/>
                  <a:pt x="23323" y="12173"/>
                  <a:pt x="23391" y="12254"/>
                </a:cubicBezTo>
                <a:cubicBezTo>
                  <a:pt x="23454" y="12329"/>
                  <a:pt x="23724" y="12206"/>
                  <a:pt x="23788" y="12179"/>
                </a:cubicBezTo>
              </a:path>
              <a:path w="2432" h="1713">
                <a:moveTo>
                  <a:pt x="23713" y="11981"/>
                </a:moveTo>
                <a:cubicBezTo>
                  <a:pt x="23674" y="12186"/>
                  <a:pt x="23642" y="12391"/>
                  <a:pt x="23664" y="12601"/>
                </a:cubicBezTo>
                <a:cubicBezTo>
                  <a:pt x="23682" y="12675"/>
                  <a:pt x="23690" y="12682"/>
                  <a:pt x="23688" y="12725"/>
                </a:cubicBezTo>
              </a:path>
              <a:path w="2432" h="1713">
                <a:moveTo>
                  <a:pt x="21357" y="11931"/>
                </a:moveTo>
                <a:cubicBezTo>
                  <a:pt x="21527" y="11924"/>
                  <a:pt x="21882" y="11690"/>
                  <a:pt x="21853" y="11857"/>
                </a:cubicBezTo>
                <a:cubicBezTo>
                  <a:pt x="21838" y="11941"/>
                  <a:pt x="21584" y="11987"/>
                  <a:pt x="21530" y="12005"/>
                </a:cubicBezTo>
                <a:cubicBezTo>
                  <a:pt x="21416" y="12005"/>
                  <a:pt x="21595" y="11971"/>
                  <a:pt x="21630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91720" y="4017960"/>
            <a:ext cx="11736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25028" y="11212"/>
                </a:moveTo>
                <a:cubicBezTo>
                  <a:pt x="25014" y="11297"/>
                  <a:pt x="25003" y="11371"/>
                  <a:pt x="25003" y="11460"/>
                </a:cubicBezTo>
                <a:cubicBezTo>
                  <a:pt x="25003" y="11468"/>
                  <a:pt x="25003" y="11477"/>
                  <a:pt x="25003" y="11485"/>
                </a:cubicBezTo>
                <a:cubicBezTo>
                  <a:pt x="25185" y="11421"/>
                  <a:pt x="25204" y="11403"/>
                  <a:pt x="25301" y="11237"/>
                </a:cubicBezTo>
                <a:cubicBezTo>
                  <a:pt x="25188" y="11152"/>
                  <a:pt x="25137" y="11162"/>
                  <a:pt x="24978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00880" y="4902120"/>
            <a:ext cx="3762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9025" y="13915"/>
                </a:moveTo>
                <a:cubicBezTo>
                  <a:pt x="19094" y="13827"/>
                  <a:pt x="19127" y="13720"/>
                  <a:pt x="19000" y="13643"/>
                </a:cubicBezTo>
                <a:cubicBezTo>
                  <a:pt x="18852" y="13553"/>
                  <a:pt x="18628" y="13697"/>
                  <a:pt x="18628" y="13866"/>
                </a:cubicBezTo>
                <a:cubicBezTo>
                  <a:pt x="18628" y="14049"/>
                  <a:pt x="18921" y="13939"/>
                  <a:pt x="18976" y="13866"/>
                </a:cubicBezTo>
                <a:cubicBezTo>
                  <a:pt x="18984" y="13841"/>
                  <a:pt x="18992" y="13816"/>
                  <a:pt x="19000" y="13791"/>
                </a:cubicBezTo>
                <a:cubicBezTo>
                  <a:pt x="19000" y="13775"/>
                  <a:pt x="19000" y="13758"/>
                  <a:pt x="19000" y="13742"/>
                </a:cubicBezTo>
                <a:cubicBezTo>
                  <a:pt x="19000" y="13877"/>
                  <a:pt x="19038" y="14005"/>
                  <a:pt x="19050" y="14139"/>
                </a:cubicBezTo>
                <a:cubicBezTo>
                  <a:pt x="19050" y="14213"/>
                  <a:pt x="19050" y="14222"/>
                  <a:pt x="19050" y="14263"/>
                </a:cubicBezTo>
              </a:path>
              <a:path w="1043" h="646">
                <a:moveTo>
                  <a:pt x="18058" y="14015"/>
                </a:moveTo>
                <a:cubicBezTo>
                  <a:pt x="18167" y="14030"/>
                  <a:pt x="18246" y="14021"/>
                  <a:pt x="18355" y="14015"/>
                </a:cubicBezTo>
                <a:cubicBezTo>
                  <a:pt x="18363" y="14015"/>
                  <a:pt x="18372" y="14015"/>
                  <a:pt x="1838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2080" y="5143680"/>
            <a:ext cx="1616040" cy="536400"/>
          </a:xfrm>
          <a:custGeom>
            <a:avLst/>
            <a:gdLst/>
            <a:ahLst/>
            <a:rect l="l" t="t" r="r" b="b"/>
            <a:pathLst>
              <a:path w="4491" h="1489">
                <a:moveTo>
                  <a:pt x="15478" y="15280"/>
                </a:moveTo>
                <a:cubicBezTo>
                  <a:pt x="15636" y="15260"/>
                  <a:pt x="15793" y="15214"/>
                  <a:pt x="15949" y="15180"/>
                </a:cubicBezTo>
                <a:cubicBezTo>
                  <a:pt x="15982" y="15172"/>
                  <a:pt x="16016" y="15164"/>
                  <a:pt x="16049" y="15156"/>
                </a:cubicBezTo>
              </a:path>
              <a:path w="4491" h="1489">
                <a:moveTo>
                  <a:pt x="16446" y="14883"/>
                </a:moveTo>
                <a:cubicBezTo>
                  <a:pt x="16419" y="14982"/>
                  <a:pt x="16398" y="15081"/>
                  <a:pt x="16371" y="15180"/>
                </a:cubicBezTo>
                <a:cubicBezTo>
                  <a:pt x="16532" y="15261"/>
                  <a:pt x="16628" y="15200"/>
                  <a:pt x="16793" y="15156"/>
                </a:cubicBezTo>
                <a:cubicBezTo>
                  <a:pt x="16801" y="15156"/>
                  <a:pt x="16810" y="15156"/>
                  <a:pt x="16818" y="15156"/>
                </a:cubicBezTo>
              </a:path>
              <a:path w="4491" h="1489">
                <a:moveTo>
                  <a:pt x="16867" y="14684"/>
                </a:moveTo>
                <a:cubicBezTo>
                  <a:pt x="16826" y="14975"/>
                  <a:pt x="16801" y="15266"/>
                  <a:pt x="16743" y="15553"/>
                </a:cubicBezTo>
                <a:cubicBezTo>
                  <a:pt x="16743" y="15561"/>
                  <a:pt x="16743" y="15569"/>
                  <a:pt x="16743" y="15577"/>
                </a:cubicBezTo>
              </a:path>
              <a:path w="4491" h="1489">
                <a:moveTo>
                  <a:pt x="17363" y="15776"/>
                </a:moveTo>
                <a:cubicBezTo>
                  <a:pt x="17456" y="15568"/>
                  <a:pt x="17515" y="15400"/>
                  <a:pt x="17512" y="15156"/>
                </a:cubicBezTo>
                <a:cubicBezTo>
                  <a:pt x="17510" y="14973"/>
                  <a:pt x="17447" y="14805"/>
                  <a:pt x="17413" y="14635"/>
                </a:cubicBezTo>
                <a:cubicBezTo>
                  <a:pt x="17413" y="14610"/>
                  <a:pt x="17413" y="14602"/>
                  <a:pt x="17413" y="14585"/>
                </a:cubicBezTo>
                <a:cubicBezTo>
                  <a:pt x="17529" y="14573"/>
                  <a:pt x="17644" y="14570"/>
                  <a:pt x="17760" y="14560"/>
                </a:cubicBezTo>
                <a:cubicBezTo>
                  <a:pt x="18125" y="14529"/>
                  <a:pt x="18485" y="14466"/>
                  <a:pt x="18852" y="14436"/>
                </a:cubicBezTo>
                <a:cubicBezTo>
                  <a:pt x="19171" y="14410"/>
                  <a:pt x="19480" y="14372"/>
                  <a:pt x="19794" y="14312"/>
                </a:cubicBezTo>
                <a:cubicBezTo>
                  <a:pt x="19864" y="14299"/>
                  <a:pt x="19902" y="14293"/>
                  <a:pt x="19968" y="14288"/>
                </a:cubicBezTo>
              </a:path>
              <a:path w="4491" h="1489">
                <a:moveTo>
                  <a:pt x="18058" y="14982"/>
                </a:moveTo>
                <a:cubicBezTo>
                  <a:pt x="18159" y="14910"/>
                  <a:pt x="18276" y="14864"/>
                  <a:pt x="18405" y="14883"/>
                </a:cubicBezTo>
                <a:cubicBezTo>
                  <a:pt x="18455" y="14908"/>
                  <a:pt x="18471" y="14916"/>
                  <a:pt x="18479" y="14957"/>
                </a:cubicBezTo>
                <a:cubicBezTo>
                  <a:pt x="18413" y="15082"/>
                  <a:pt x="18344" y="15124"/>
                  <a:pt x="18231" y="15205"/>
                </a:cubicBezTo>
                <a:cubicBezTo>
                  <a:pt x="18391" y="15150"/>
                  <a:pt x="18414" y="15156"/>
                  <a:pt x="18579" y="15205"/>
                </a:cubicBezTo>
                <a:cubicBezTo>
                  <a:pt x="18579" y="15413"/>
                  <a:pt x="18451" y="15483"/>
                  <a:pt x="18231" y="15528"/>
                </a:cubicBezTo>
                <a:cubicBezTo>
                  <a:pt x="18157" y="15528"/>
                  <a:pt x="18099" y="15528"/>
                  <a:pt x="18157" y="15528"/>
                </a:cubicBezTo>
              </a:path>
              <a:path w="4491" h="1489">
                <a:moveTo>
                  <a:pt x="18901" y="14858"/>
                </a:moveTo>
                <a:cubicBezTo>
                  <a:pt x="18901" y="14977"/>
                  <a:pt x="18863" y="15088"/>
                  <a:pt x="18852" y="15205"/>
                </a:cubicBezTo>
                <a:cubicBezTo>
                  <a:pt x="18835" y="15380"/>
                  <a:pt x="19039" y="15479"/>
                  <a:pt x="19199" y="15429"/>
                </a:cubicBezTo>
                <a:cubicBezTo>
                  <a:pt x="19287" y="15402"/>
                  <a:pt x="19594" y="15224"/>
                  <a:pt x="19472" y="15081"/>
                </a:cubicBezTo>
                <a:cubicBezTo>
                  <a:pt x="19338" y="14925"/>
                  <a:pt x="19202" y="15113"/>
                  <a:pt x="19149" y="15230"/>
                </a:cubicBezTo>
                <a:cubicBezTo>
                  <a:pt x="19111" y="15314"/>
                  <a:pt x="19117" y="15361"/>
                  <a:pt x="1917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759880" y="3821040"/>
            <a:ext cx="268200" cy="152640"/>
          </a:xfrm>
          <a:custGeom>
            <a:avLst/>
            <a:gdLst/>
            <a:ahLst/>
            <a:rect l="l" t="t" r="r" b="b"/>
            <a:pathLst>
              <a:path w="746" h="423">
                <a:moveTo>
                  <a:pt x="24333" y="10616"/>
                </a:moveTo>
                <a:cubicBezTo>
                  <a:pt x="24556" y="10636"/>
                  <a:pt x="24686" y="10664"/>
                  <a:pt x="24507" y="10889"/>
                </a:cubicBezTo>
                <a:cubicBezTo>
                  <a:pt x="24474" y="10922"/>
                  <a:pt x="24441" y="10955"/>
                  <a:pt x="24408" y="10988"/>
                </a:cubicBezTo>
                <a:cubicBezTo>
                  <a:pt x="24400" y="11005"/>
                  <a:pt x="24391" y="11021"/>
                  <a:pt x="24383" y="11038"/>
                </a:cubicBezTo>
                <a:cubicBezTo>
                  <a:pt x="24540" y="10985"/>
                  <a:pt x="24669" y="10888"/>
                  <a:pt x="24805" y="10790"/>
                </a:cubicBezTo>
              </a:path>
              <a:path w="746" h="423">
                <a:moveTo>
                  <a:pt x="24854" y="10616"/>
                </a:moveTo>
                <a:cubicBezTo>
                  <a:pt x="24810" y="10705"/>
                  <a:pt x="24794" y="10726"/>
                  <a:pt x="24805" y="10790"/>
                </a:cubicBezTo>
                <a:cubicBezTo>
                  <a:pt x="24885" y="10839"/>
                  <a:pt x="25098" y="10872"/>
                  <a:pt x="25078" y="10691"/>
                </a:cubicBezTo>
                <a:cubicBezTo>
                  <a:pt x="25026" y="10613"/>
                  <a:pt x="25005" y="10589"/>
                  <a:pt x="2492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t’s try some together: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625920" y="2125800"/>
            <a:ext cx="1768320" cy="3608280"/>
          </a:xfrm>
          <a:custGeom>
            <a:avLst/>
            <a:gdLst/>
            <a:ahLst/>
            <a:rect l="l" t="t" r="r" b="b"/>
            <a:pathLst>
              <a:path w="4912" h="10022">
                <a:moveTo>
                  <a:pt x="10071" y="5978"/>
                </a:moveTo>
                <a:cubicBezTo>
                  <a:pt x="10205" y="5966"/>
                  <a:pt x="10337" y="5938"/>
                  <a:pt x="10468" y="5904"/>
                </a:cubicBezTo>
              </a:path>
              <a:path w="4912" h="10022">
                <a:moveTo>
                  <a:pt x="14585" y="15925"/>
                </a:moveTo>
                <a:cubicBezTo>
                  <a:pt x="14782" y="15875"/>
                  <a:pt x="14847" y="15859"/>
                  <a:pt x="14982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7800" y="4527720"/>
            <a:ext cx="1866960" cy="1652400"/>
          </a:xfrm>
          <a:custGeom>
            <a:avLst/>
            <a:gdLst/>
            <a:ahLst/>
            <a:rect l="l" t="t" r="r" b="b"/>
            <a:pathLst>
              <a:path w="5185" h="4590">
                <a:moveTo>
                  <a:pt x="13866" y="14833"/>
                </a:moveTo>
                <a:cubicBezTo>
                  <a:pt x="13890" y="14736"/>
                  <a:pt x="13877" y="14656"/>
                  <a:pt x="13791" y="14560"/>
                </a:cubicBezTo>
                <a:cubicBezTo>
                  <a:pt x="13572" y="14317"/>
                  <a:pt x="13376" y="14458"/>
                  <a:pt x="13271" y="14734"/>
                </a:cubicBezTo>
                <a:cubicBezTo>
                  <a:pt x="13248" y="14918"/>
                  <a:pt x="13231" y="14974"/>
                  <a:pt x="13345" y="15056"/>
                </a:cubicBezTo>
                <a:cubicBezTo>
                  <a:pt x="13616" y="15056"/>
                  <a:pt x="13746" y="14993"/>
                  <a:pt x="13841" y="14709"/>
                </a:cubicBezTo>
                <a:cubicBezTo>
                  <a:pt x="13841" y="14648"/>
                  <a:pt x="13832" y="14632"/>
                  <a:pt x="13866" y="14610"/>
                </a:cubicBezTo>
                <a:cubicBezTo>
                  <a:pt x="13866" y="14837"/>
                  <a:pt x="13833" y="15055"/>
                  <a:pt x="13816" y="15280"/>
                </a:cubicBezTo>
                <a:cubicBezTo>
                  <a:pt x="13810" y="15362"/>
                  <a:pt x="13779" y="15416"/>
                  <a:pt x="13816" y="15379"/>
                </a:cubicBezTo>
              </a:path>
              <a:path w="5185" h="4590">
                <a:moveTo>
                  <a:pt x="14213" y="15577"/>
                </a:moveTo>
                <a:cubicBezTo>
                  <a:pt x="14295" y="15308"/>
                  <a:pt x="14321" y="15078"/>
                  <a:pt x="14312" y="14784"/>
                </a:cubicBezTo>
                <a:cubicBezTo>
                  <a:pt x="14302" y="14471"/>
                  <a:pt x="14198" y="14289"/>
                  <a:pt x="14139" y="14015"/>
                </a:cubicBezTo>
                <a:cubicBezTo>
                  <a:pt x="14147" y="14007"/>
                  <a:pt x="14155" y="13998"/>
                  <a:pt x="14163" y="13990"/>
                </a:cubicBezTo>
                <a:cubicBezTo>
                  <a:pt x="14529" y="14073"/>
                  <a:pt x="14846" y="14087"/>
                  <a:pt x="15230" y="14089"/>
                </a:cubicBezTo>
                <a:cubicBezTo>
                  <a:pt x="15810" y="14092"/>
                  <a:pt x="16387" y="14073"/>
                  <a:pt x="16966" y="14064"/>
                </a:cubicBezTo>
                <a:cubicBezTo>
                  <a:pt x="17008" y="14064"/>
                  <a:pt x="17016" y="14064"/>
                  <a:pt x="17041" y="14064"/>
                </a:cubicBezTo>
              </a:path>
              <a:path w="5185" h="4590">
                <a:moveTo>
                  <a:pt x="14808" y="14536"/>
                </a:moveTo>
                <a:cubicBezTo>
                  <a:pt x="15015" y="14536"/>
                  <a:pt x="15222" y="14536"/>
                  <a:pt x="15429" y="14536"/>
                </a:cubicBezTo>
                <a:cubicBezTo>
                  <a:pt x="15397" y="14693"/>
                  <a:pt x="15277" y="14862"/>
                  <a:pt x="15205" y="15007"/>
                </a:cubicBezTo>
                <a:cubicBezTo>
                  <a:pt x="15148" y="15121"/>
                  <a:pt x="15124" y="15132"/>
                  <a:pt x="15131" y="15205"/>
                </a:cubicBezTo>
              </a:path>
              <a:path w="5185" h="4590">
                <a:moveTo>
                  <a:pt x="15701" y="14585"/>
                </a:moveTo>
                <a:cubicBezTo>
                  <a:pt x="15871" y="14501"/>
                  <a:pt x="15982" y="14453"/>
                  <a:pt x="16148" y="14536"/>
                </a:cubicBezTo>
                <a:cubicBezTo>
                  <a:pt x="16135" y="14821"/>
                  <a:pt x="15982" y="14889"/>
                  <a:pt x="15801" y="15106"/>
                </a:cubicBezTo>
                <a:cubicBezTo>
                  <a:pt x="15793" y="15123"/>
                  <a:pt x="15784" y="15139"/>
                  <a:pt x="15776" y="15156"/>
                </a:cubicBezTo>
                <a:cubicBezTo>
                  <a:pt x="15968" y="15156"/>
                  <a:pt x="16155" y="15141"/>
                  <a:pt x="16346" y="15131"/>
                </a:cubicBezTo>
              </a:path>
              <a:path w="5185" h="4590">
                <a:moveTo>
                  <a:pt x="14585" y="14932"/>
                </a:moveTo>
                <a:cubicBezTo>
                  <a:pt x="14612" y="14919"/>
                  <a:pt x="14755" y="14864"/>
                  <a:pt x="14784" y="14883"/>
                </a:cubicBezTo>
                <a:cubicBezTo>
                  <a:pt x="14784" y="14891"/>
                  <a:pt x="14784" y="14900"/>
                  <a:pt x="14784" y="14908"/>
                </a:cubicBezTo>
              </a:path>
              <a:path w="5185" h="4590">
                <a:moveTo>
                  <a:pt x="12502" y="14982"/>
                </a:moveTo>
                <a:cubicBezTo>
                  <a:pt x="12568" y="14982"/>
                  <a:pt x="12585" y="14982"/>
                  <a:pt x="12626" y="14982"/>
                </a:cubicBezTo>
              </a:path>
              <a:path w="5185" h="4590">
                <a:moveTo>
                  <a:pt x="16123" y="13171"/>
                </a:moveTo>
                <a:cubicBezTo>
                  <a:pt x="16227" y="13136"/>
                  <a:pt x="16017" y="13050"/>
                  <a:pt x="15999" y="13047"/>
                </a:cubicBezTo>
                <a:cubicBezTo>
                  <a:pt x="15764" y="13013"/>
                  <a:pt x="15647" y="13116"/>
                  <a:pt x="15478" y="13246"/>
                </a:cubicBezTo>
                <a:cubicBezTo>
                  <a:pt x="15691" y="13450"/>
                  <a:pt x="15972" y="13520"/>
                  <a:pt x="16148" y="13742"/>
                </a:cubicBezTo>
                <a:cubicBezTo>
                  <a:pt x="16057" y="13813"/>
                  <a:pt x="15769" y="13997"/>
                  <a:pt x="15801" y="13717"/>
                </a:cubicBezTo>
                <a:cubicBezTo>
                  <a:pt x="15813" y="13613"/>
                  <a:pt x="16131" y="13106"/>
                  <a:pt x="16073" y="13047"/>
                </a:cubicBezTo>
                <a:cubicBezTo>
                  <a:pt x="16057" y="13055"/>
                  <a:pt x="16040" y="13064"/>
                  <a:pt x="16024" y="13072"/>
                </a:cubicBezTo>
              </a:path>
              <a:path w="5185" h="4590">
                <a:moveTo>
                  <a:pt x="14957" y="15677"/>
                </a:moveTo>
                <a:cubicBezTo>
                  <a:pt x="15061" y="15593"/>
                  <a:pt x="15277" y="15584"/>
                  <a:pt x="15429" y="15577"/>
                </a:cubicBezTo>
                <a:cubicBezTo>
                  <a:pt x="15454" y="15577"/>
                  <a:pt x="15478" y="15577"/>
                  <a:pt x="15503" y="15577"/>
                </a:cubicBezTo>
                <a:cubicBezTo>
                  <a:pt x="15472" y="15743"/>
                  <a:pt x="15344" y="15906"/>
                  <a:pt x="15329" y="16073"/>
                </a:cubicBezTo>
                <a:cubicBezTo>
                  <a:pt x="15337" y="16065"/>
                  <a:pt x="15346" y="16057"/>
                  <a:pt x="15354" y="16049"/>
                </a:cubicBezTo>
              </a:path>
              <a:path w="5185" h="4590">
                <a:moveTo>
                  <a:pt x="15875" y="15652"/>
                </a:moveTo>
                <a:cubicBezTo>
                  <a:pt x="15994" y="15622"/>
                  <a:pt x="16008" y="15620"/>
                  <a:pt x="16123" y="15627"/>
                </a:cubicBezTo>
                <a:cubicBezTo>
                  <a:pt x="16214" y="15826"/>
                  <a:pt x="16051" y="15889"/>
                  <a:pt x="15900" y="16024"/>
                </a:cubicBezTo>
                <a:cubicBezTo>
                  <a:pt x="15883" y="16040"/>
                  <a:pt x="15867" y="16057"/>
                  <a:pt x="15850" y="16073"/>
                </a:cubicBezTo>
                <a:cubicBezTo>
                  <a:pt x="16010" y="16039"/>
                  <a:pt x="16153" y="15987"/>
                  <a:pt x="16321" y="15974"/>
                </a:cubicBezTo>
              </a:path>
              <a:path w="5185" h="4590">
                <a:moveTo>
                  <a:pt x="14734" y="16321"/>
                </a:moveTo>
                <a:cubicBezTo>
                  <a:pt x="15287" y="16271"/>
                  <a:pt x="15842" y="16255"/>
                  <a:pt x="16396" y="16297"/>
                </a:cubicBezTo>
                <a:cubicBezTo>
                  <a:pt x="16446" y="16305"/>
                  <a:pt x="16495" y="16313"/>
                  <a:pt x="16545" y="16321"/>
                </a:cubicBezTo>
              </a:path>
              <a:path w="5185" h="4590">
                <a:moveTo>
                  <a:pt x="16247" y="16644"/>
                </a:moveTo>
                <a:cubicBezTo>
                  <a:pt x="16101" y="16673"/>
                  <a:pt x="15935" y="16824"/>
                  <a:pt x="15925" y="16991"/>
                </a:cubicBezTo>
                <a:cubicBezTo>
                  <a:pt x="15941" y="17032"/>
                  <a:pt x="15958" y="17074"/>
                  <a:pt x="15974" y="17115"/>
                </a:cubicBezTo>
                <a:cubicBezTo>
                  <a:pt x="16180" y="17172"/>
                  <a:pt x="16423" y="17235"/>
                  <a:pt x="16446" y="16942"/>
                </a:cubicBezTo>
                <a:cubicBezTo>
                  <a:pt x="16462" y="16733"/>
                  <a:pt x="16311" y="16692"/>
                  <a:pt x="16148" y="16669"/>
                </a:cubicBezTo>
              </a:path>
              <a:path w="5185" h="4590">
                <a:moveTo>
                  <a:pt x="14263" y="15032"/>
                </a:moveTo>
                <a:cubicBezTo>
                  <a:pt x="14348" y="15068"/>
                  <a:pt x="14417" y="15132"/>
                  <a:pt x="14511" y="15180"/>
                </a:cubicBezTo>
                <a:cubicBezTo>
                  <a:pt x="14667" y="15260"/>
                  <a:pt x="14907" y="15253"/>
                  <a:pt x="15032" y="15106"/>
                </a:cubicBezTo>
                <a:cubicBezTo>
                  <a:pt x="15157" y="14959"/>
                  <a:pt x="15180" y="14663"/>
                  <a:pt x="14982" y="14560"/>
                </a:cubicBezTo>
                <a:cubicBezTo>
                  <a:pt x="14756" y="14442"/>
                  <a:pt x="14448" y="14568"/>
                  <a:pt x="14312" y="14759"/>
                </a:cubicBezTo>
                <a:cubicBezTo>
                  <a:pt x="14068" y="15100"/>
                  <a:pt x="14387" y="15216"/>
                  <a:pt x="14635" y="15180"/>
                </a:cubicBezTo>
              </a:path>
              <a:path w="5185" h="4590">
                <a:moveTo>
                  <a:pt x="12179" y="15180"/>
                </a:moveTo>
                <a:cubicBezTo>
                  <a:pt x="12276" y="15238"/>
                  <a:pt x="12427" y="15368"/>
                  <a:pt x="12551" y="15379"/>
                </a:cubicBezTo>
                <a:cubicBezTo>
                  <a:pt x="12769" y="15398"/>
                  <a:pt x="13010" y="15106"/>
                  <a:pt x="13022" y="14908"/>
                </a:cubicBezTo>
                <a:cubicBezTo>
                  <a:pt x="13041" y="14584"/>
                  <a:pt x="12657" y="14460"/>
                  <a:pt x="12402" y="14560"/>
                </a:cubicBezTo>
                <a:cubicBezTo>
                  <a:pt x="12189" y="14644"/>
                  <a:pt x="11959" y="15093"/>
                  <a:pt x="12179" y="15280"/>
                </a:cubicBezTo>
                <a:cubicBezTo>
                  <a:pt x="12423" y="15361"/>
                  <a:pt x="12520" y="15382"/>
                  <a:pt x="12700" y="15304"/>
                </a:cubicBezTo>
              </a:path>
              <a:path w="5185" h="4590">
                <a:moveTo>
                  <a:pt x="15230" y="13791"/>
                </a:moveTo>
                <a:cubicBezTo>
                  <a:pt x="15274" y="13959"/>
                  <a:pt x="15315" y="14105"/>
                  <a:pt x="15453" y="14238"/>
                </a:cubicBezTo>
                <a:cubicBezTo>
                  <a:pt x="15681" y="14458"/>
                  <a:pt x="16095" y="14502"/>
                  <a:pt x="16396" y="14461"/>
                </a:cubicBezTo>
                <a:cubicBezTo>
                  <a:pt x="16747" y="14414"/>
                  <a:pt x="17174" y="14237"/>
                  <a:pt x="17289" y="13866"/>
                </a:cubicBezTo>
                <a:cubicBezTo>
                  <a:pt x="17403" y="13500"/>
                  <a:pt x="16962" y="13063"/>
                  <a:pt x="16718" y="12874"/>
                </a:cubicBezTo>
                <a:cubicBezTo>
                  <a:pt x="16345" y="12585"/>
                  <a:pt x="15836" y="12430"/>
                  <a:pt x="15429" y="12750"/>
                </a:cubicBezTo>
                <a:cubicBezTo>
                  <a:pt x="15080" y="13024"/>
                  <a:pt x="15006" y="13646"/>
                  <a:pt x="15329" y="13965"/>
                </a:cubicBezTo>
                <a:cubicBezTo>
                  <a:pt x="15437" y="14031"/>
                  <a:pt x="15544" y="14097"/>
                  <a:pt x="15652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16160" y="1258920"/>
            <a:ext cx="1519200" cy="1527120"/>
          </a:xfrm>
          <a:custGeom>
            <a:avLst/>
            <a:gdLst/>
            <a:ahLst/>
            <a:rect l="l" t="t" r="r" b="b"/>
            <a:pathLst>
              <a:path w="4218" h="4243">
                <a:moveTo>
                  <a:pt x="11137" y="5606"/>
                </a:moveTo>
                <a:cubicBezTo>
                  <a:pt x="11210" y="5512"/>
                  <a:pt x="11159" y="5536"/>
                  <a:pt x="11286" y="5482"/>
                </a:cubicBezTo>
                <a:cubicBezTo>
                  <a:pt x="11587" y="5768"/>
                  <a:pt x="11553" y="6146"/>
                  <a:pt x="11187" y="6449"/>
                </a:cubicBezTo>
                <a:cubicBezTo>
                  <a:pt x="10989" y="6528"/>
                  <a:pt x="10945" y="6599"/>
                  <a:pt x="10864" y="6474"/>
                </a:cubicBezTo>
                <a:cubicBezTo>
                  <a:pt x="11045" y="6263"/>
                  <a:pt x="11260" y="6007"/>
                  <a:pt x="11509" y="6325"/>
                </a:cubicBezTo>
                <a:cubicBezTo>
                  <a:pt x="11584" y="6421"/>
                  <a:pt x="11524" y="6563"/>
                  <a:pt x="11584" y="6424"/>
                </a:cubicBezTo>
              </a:path>
              <a:path w="4218" h="4243">
                <a:moveTo>
                  <a:pt x="12030" y="5308"/>
                </a:moveTo>
                <a:cubicBezTo>
                  <a:pt x="11818" y="5379"/>
                  <a:pt x="11708" y="5424"/>
                  <a:pt x="11658" y="5655"/>
                </a:cubicBezTo>
                <a:cubicBezTo>
                  <a:pt x="11885" y="5832"/>
                  <a:pt x="12092" y="5941"/>
                  <a:pt x="12204" y="6201"/>
                </a:cubicBezTo>
                <a:cubicBezTo>
                  <a:pt x="11878" y="6401"/>
                  <a:pt x="11838" y="6148"/>
                  <a:pt x="11881" y="5804"/>
                </a:cubicBezTo>
                <a:cubicBezTo>
                  <a:pt x="11916" y="5521"/>
                  <a:pt x="12061" y="5417"/>
                  <a:pt x="11906" y="5308"/>
                </a:cubicBezTo>
              </a:path>
              <a:path w="4218" h="4243">
                <a:moveTo>
                  <a:pt x="9996" y="6747"/>
                </a:moveTo>
                <a:cubicBezTo>
                  <a:pt x="9884" y="6365"/>
                  <a:pt x="9764" y="5979"/>
                  <a:pt x="9624" y="5606"/>
                </a:cubicBezTo>
                <a:cubicBezTo>
                  <a:pt x="9588" y="5533"/>
                  <a:pt x="9571" y="5528"/>
                  <a:pt x="9575" y="5482"/>
                </a:cubicBezTo>
                <a:cubicBezTo>
                  <a:pt x="9826" y="5427"/>
                  <a:pt x="10160" y="5381"/>
                  <a:pt x="10418" y="5333"/>
                </a:cubicBezTo>
                <a:cubicBezTo>
                  <a:pt x="11136" y="5199"/>
                  <a:pt x="11851" y="5056"/>
                  <a:pt x="12576" y="4961"/>
                </a:cubicBezTo>
                <a:cubicBezTo>
                  <a:pt x="12690" y="4946"/>
                  <a:pt x="12771" y="4946"/>
                  <a:pt x="12874" y="4936"/>
                </a:cubicBezTo>
              </a:path>
              <a:path w="4218" h="4243">
                <a:moveTo>
                  <a:pt x="8657" y="5829"/>
                </a:moveTo>
                <a:cubicBezTo>
                  <a:pt x="8832" y="5829"/>
                  <a:pt x="9002" y="5807"/>
                  <a:pt x="9178" y="5804"/>
                </a:cubicBezTo>
                <a:cubicBezTo>
                  <a:pt x="9252" y="5804"/>
                  <a:pt x="9261" y="5804"/>
                  <a:pt x="9302" y="5804"/>
                </a:cubicBezTo>
                <a:cubicBezTo>
                  <a:pt x="9243" y="6097"/>
                  <a:pt x="9114" y="6393"/>
                  <a:pt x="9004" y="6672"/>
                </a:cubicBezTo>
                <a:cubicBezTo>
                  <a:pt x="8987" y="6705"/>
                  <a:pt x="8971" y="6739"/>
                  <a:pt x="8954" y="6772"/>
                </a:cubicBezTo>
              </a:path>
              <a:path w="4218" h="4243">
                <a:moveTo>
                  <a:pt x="11063" y="4490"/>
                </a:moveTo>
                <a:cubicBezTo>
                  <a:pt x="11027" y="4382"/>
                  <a:pt x="10899" y="4588"/>
                  <a:pt x="10889" y="4614"/>
                </a:cubicBezTo>
                <a:cubicBezTo>
                  <a:pt x="10838" y="4750"/>
                  <a:pt x="10808" y="5055"/>
                  <a:pt x="11013" y="5085"/>
                </a:cubicBezTo>
                <a:cubicBezTo>
                  <a:pt x="11213" y="5114"/>
                  <a:pt x="11340" y="4833"/>
                  <a:pt x="11361" y="4688"/>
                </a:cubicBezTo>
                <a:cubicBezTo>
                  <a:pt x="11379" y="4565"/>
                  <a:pt x="11364" y="4474"/>
                  <a:pt x="11261" y="4415"/>
                </a:cubicBezTo>
              </a:path>
              <a:path w="4218" h="4243">
                <a:moveTo>
                  <a:pt x="11708" y="4390"/>
                </a:moveTo>
                <a:cubicBezTo>
                  <a:pt x="11687" y="4509"/>
                  <a:pt x="11663" y="4603"/>
                  <a:pt x="11683" y="4713"/>
                </a:cubicBezTo>
                <a:cubicBezTo>
                  <a:pt x="11826" y="4713"/>
                  <a:pt x="11949" y="4667"/>
                  <a:pt x="12080" y="4614"/>
                </a:cubicBezTo>
                <a:cubicBezTo>
                  <a:pt x="12096" y="4606"/>
                  <a:pt x="12113" y="4597"/>
                  <a:pt x="12129" y="4589"/>
                </a:cubicBezTo>
              </a:path>
              <a:path w="4218" h="4243">
                <a:moveTo>
                  <a:pt x="12105" y="4118"/>
                </a:moveTo>
                <a:cubicBezTo>
                  <a:pt x="12049" y="4354"/>
                  <a:pt x="12055" y="4599"/>
                  <a:pt x="12005" y="4837"/>
                </a:cubicBezTo>
                <a:cubicBezTo>
                  <a:pt x="11986" y="4878"/>
                  <a:pt x="11978" y="4884"/>
                  <a:pt x="11981" y="4911"/>
                </a:cubicBezTo>
              </a:path>
              <a:path w="4218" h="4243">
                <a:moveTo>
                  <a:pt x="11237" y="6871"/>
                </a:moveTo>
                <a:cubicBezTo>
                  <a:pt x="11259" y="6801"/>
                  <a:pt x="11392" y="6769"/>
                  <a:pt x="11460" y="6846"/>
                </a:cubicBezTo>
                <a:cubicBezTo>
                  <a:pt x="11607" y="7011"/>
                  <a:pt x="11397" y="7288"/>
                  <a:pt x="11212" y="7293"/>
                </a:cubicBezTo>
                <a:cubicBezTo>
                  <a:pt x="11187" y="7276"/>
                  <a:pt x="11162" y="7260"/>
                  <a:pt x="11137" y="7243"/>
                </a:cubicBezTo>
                <a:cubicBezTo>
                  <a:pt x="11244" y="7046"/>
                  <a:pt x="11343" y="7017"/>
                  <a:pt x="11559" y="7094"/>
                </a:cubicBezTo>
                <a:cubicBezTo>
                  <a:pt x="11695" y="7143"/>
                  <a:pt x="11638" y="7176"/>
                  <a:pt x="11733" y="7094"/>
                </a:cubicBezTo>
              </a:path>
              <a:path w="4218" h="4243">
                <a:moveTo>
                  <a:pt x="11881" y="6672"/>
                </a:moveTo>
                <a:cubicBezTo>
                  <a:pt x="11827" y="6745"/>
                  <a:pt x="11802" y="6745"/>
                  <a:pt x="11807" y="6796"/>
                </a:cubicBezTo>
                <a:cubicBezTo>
                  <a:pt x="11927" y="6842"/>
                  <a:pt x="12042" y="6885"/>
                  <a:pt x="12154" y="6945"/>
                </a:cubicBezTo>
                <a:cubicBezTo>
                  <a:pt x="12107" y="7031"/>
                  <a:pt x="11891" y="7199"/>
                  <a:pt x="11931" y="6945"/>
                </a:cubicBezTo>
                <a:cubicBezTo>
                  <a:pt x="11950" y="6827"/>
                  <a:pt x="12160" y="6615"/>
                  <a:pt x="12055" y="6573"/>
                </a:cubicBezTo>
              </a:path>
              <a:path w="4218" h="4243">
                <a:moveTo>
                  <a:pt x="10641" y="7218"/>
                </a:moveTo>
                <a:cubicBezTo>
                  <a:pt x="10799" y="7171"/>
                  <a:pt x="10927" y="7111"/>
                  <a:pt x="11088" y="7094"/>
                </a:cubicBezTo>
              </a:path>
              <a:path w="4218" h="4243">
                <a:moveTo>
                  <a:pt x="10740" y="7491"/>
                </a:moveTo>
                <a:cubicBezTo>
                  <a:pt x="11172" y="7344"/>
                  <a:pt x="11611" y="7202"/>
                  <a:pt x="12055" y="7094"/>
                </a:cubicBezTo>
                <a:cubicBezTo>
                  <a:pt x="12150" y="7071"/>
                  <a:pt x="12441" y="7004"/>
                  <a:pt x="12502" y="6995"/>
                </a:cubicBezTo>
              </a:path>
              <a:path w="4218" h="4243">
                <a:moveTo>
                  <a:pt x="12204" y="7243"/>
                </a:moveTo>
                <a:cubicBezTo>
                  <a:pt x="12119" y="7243"/>
                  <a:pt x="12017" y="7242"/>
                  <a:pt x="11956" y="7317"/>
                </a:cubicBezTo>
                <a:cubicBezTo>
                  <a:pt x="11838" y="7462"/>
                  <a:pt x="11813" y="7579"/>
                  <a:pt x="11881" y="7739"/>
                </a:cubicBezTo>
                <a:cubicBezTo>
                  <a:pt x="12093" y="7672"/>
                  <a:pt x="12326" y="7587"/>
                  <a:pt x="12427" y="7367"/>
                </a:cubicBezTo>
                <a:cubicBezTo>
                  <a:pt x="12427" y="7342"/>
                  <a:pt x="12427" y="7318"/>
                  <a:pt x="12427" y="7293"/>
                </a:cubicBezTo>
                <a:cubicBezTo>
                  <a:pt x="12311" y="7229"/>
                  <a:pt x="12240" y="7254"/>
                  <a:pt x="12105" y="7268"/>
                </a:cubicBezTo>
              </a:path>
              <a:path w="4218" h="4243">
                <a:moveTo>
                  <a:pt x="11261" y="4465"/>
                </a:moveTo>
                <a:cubicBezTo>
                  <a:pt x="11225" y="4456"/>
                  <a:pt x="11147" y="4403"/>
                  <a:pt x="11112" y="4465"/>
                </a:cubicBezTo>
                <a:cubicBezTo>
                  <a:pt x="11104" y="4498"/>
                  <a:pt x="11096" y="4531"/>
                  <a:pt x="11088" y="4564"/>
                </a:cubicBezTo>
              </a:path>
              <a:path w="4218" h="4243">
                <a:moveTo>
                  <a:pt x="10096" y="4638"/>
                </a:moveTo>
                <a:cubicBezTo>
                  <a:pt x="10033" y="4638"/>
                  <a:pt x="10188" y="4616"/>
                  <a:pt x="10195" y="4614"/>
                </a:cubicBezTo>
                <a:cubicBezTo>
                  <a:pt x="10295" y="4582"/>
                  <a:pt x="10425" y="4579"/>
                  <a:pt x="10517" y="4539"/>
                </a:cubicBezTo>
                <a:cubicBezTo>
                  <a:pt x="10559" y="4521"/>
                  <a:pt x="10565" y="4514"/>
                  <a:pt x="10616" y="4514"/>
                </a:cubicBezTo>
              </a:path>
              <a:path w="4218" h="4243">
                <a:moveTo>
                  <a:pt x="9773" y="4936"/>
                </a:moveTo>
                <a:cubicBezTo>
                  <a:pt x="9902" y="5080"/>
                  <a:pt x="9983" y="5160"/>
                  <a:pt x="10170" y="5234"/>
                </a:cubicBezTo>
                <a:cubicBezTo>
                  <a:pt x="10508" y="5367"/>
                  <a:pt x="10861" y="5355"/>
                  <a:pt x="11212" y="5283"/>
                </a:cubicBezTo>
                <a:cubicBezTo>
                  <a:pt x="11553" y="5213"/>
                  <a:pt x="11838" y="5070"/>
                  <a:pt x="12154" y="4936"/>
                </a:cubicBezTo>
                <a:cubicBezTo>
                  <a:pt x="12431" y="4819"/>
                  <a:pt x="12577" y="4747"/>
                  <a:pt x="12750" y="4490"/>
                </a:cubicBezTo>
                <a:cubicBezTo>
                  <a:pt x="12860" y="4327"/>
                  <a:pt x="12908" y="4033"/>
                  <a:pt x="12824" y="3845"/>
                </a:cubicBezTo>
                <a:cubicBezTo>
                  <a:pt x="12647" y="3451"/>
                  <a:pt x="11961" y="3476"/>
                  <a:pt x="11633" y="3522"/>
                </a:cubicBezTo>
                <a:cubicBezTo>
                  <a:pt x="10784" y="3643"/>
                  <a:pt x="10116" y="3968"/>
                  <a:pt x="9575" y="4638"/>
                </a:cubicBezTo>
                <a:cubicBezTo>
                  <a:pt x="9172" y="5137"/>
                  <a:pt x="9283" y="5301"/>
                  <a:pt x="979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2800" y="2197080"/>
            <a:ext cx="1224000" cy="1062000"/>
          </a:xfrm>
          <a:custGeom>
            <a:avLst/>
            <a:gdLst/>
            <a:ahLst/>
            <a:rect l="l" t="t" r="r" b="b"/>
            <a:pathLst>
              <a:path w="3399" h="2953">
                <a:moveTo>
                  <a:pt x="16470" y="8235"/>
                </a:moveTo>
                <a:cubicBezTo>
                  <a:pt x="16549" y="8167"/>
                  <a:pt x="16791" y="8013"/>
                  <a:pt x="16892" y="8136"/>
                </a:cubicBezTo>
                <a:cubicBezTo>
                  <a:pt x="17014" y="8286"/>
                  <a:pt x="16710" y="8416"/>
                  <a:pt x="16644" y="8458"/>
                </a:cubicBezTo>
                <a:cubicBezTo>
                  <a:pt x="16589" y="8432"/>
                  <a:pt x="16576" y="8420"/>
                  <a:pt x="16644" y="8384"/>
                </a:cubicBezTo>
                <a:cubicBezTo>
                  <a:pt x="16895" y="8404"/>
                  <a:pt x="17047" y="8485"/>
                  <a:pt x="16743" y="8682"/>
                </a:cubicBezTo>
                <a:cubicBezTo>
                  <a:pt x="16590" y="8748"/>
                  <a:pt x="16553" y="8772"/>
                  <a:pt x="16446" y="8756"/>
                </a:cubicBezTo>
              </a:path>
              <a:path w="3399" h="2953">
                <a:moveTo>
                  <a:pt x="17214" y="8037"/>
                </a:moveTo>
                <a:cubicBezTo>
                  <a:pt x="17178" y="8203"/>
                  <a:pt x="17092" y="8456"/>
                  <a:pt x="17214" y="8607"/>
                </a:cubicBezTo>
                <a:cubicBezTo>
                  <a:pt x="17368" y="8797"/>
                  <a:pt x="17736" y="8629"/>
                  <a:pt x="17760" y="8409"/>
                </a:cubicBezTo>
                <a:cubicBezTo>
                  <a:pt x="17744" y="8368"/>
                  <a:pt x="17727" y="8326"/>
                  <a:pt x="17711" y="8285"/>
                </a:cubicBezTo>
                <a:cubicBezTo>
                  <a:pt x="17443" y="8308"/>
                  <a:pt x="17395" y="8397"/>
                  <a:pt x="17363" y="8682"/>
                </a:cubicBezTo>
                <a:cubicBezTo>
                  <a:pt x="17363" y="8690"/>
                  <a:pt x="17363" y="8698"/>
                  <a:pt x="17363" y="8706"/>
                </a:cubicBezTo>
              </a:path>
              <a:path w="3399" h="2953">
                <a:moveTo>
                  <a:pt x="16098" y="9054"/>
                </a:moveTo>
                <a:cubicBezTo>
                  <a:pt x="16098" y="8787"/>
                  <a:pt x="16089" y="8525"/>
                  <a:pt x="16049" y="8260"/>
                </a:cubicBezTo>
                <a:cubicBezTo>
                  <a:pt x="16037" y="8178"/>
                  <a:pt x="16029" y="8116"/>
                  <a:pt x="16024" y="8037"/>
                </a:cubicBezTo>
                <a:cubicBezTo>
                  <a:pt x="16396" y="7966"/>
                  <a:pt x="16787" y="7942"/>
                  <a:pt x="17165" y="7913"/>
                </a:cubicBezTo>
                <a:cubicBezTo>
                  <a:pt x="17516" y="7886"/>
                  <a:pt x="17952" y="7805"/>
                  <a:pt x="18306" y="7863"/>
                </a:cubicBezTo>
                <a:cubicBezTo>
                  <a:pt x="18347" y="7863"/>
                  <a:pt x="18363" y="7855"/>
                  <a:pt x="18355" y="7888"/>
                </a:cubicBezTo>
              </a:path>
              <a:path w="3399" h="2953">
                <a:moveTo>
                  <a:pt x="14982" y="8781"/>
                </a:moveTo>
                <a:cubicBezTo>
                  <a:pt x="15118" y="8735"/>
                  <a:pt x="15250" y="8721"/>
                  <a:pt x="15379" y="8657"/>
                </a:cubicBezTo>
              </a:path>
              <a:path w="3399" h="2953">
                <a:moveTo>
                  <a:pt x="15900" y="8409"/>
                </a:moveTo>
                <a:cubicBezTo>
                  <a:pt x="15847" y="8329"/>
                  <a:pt x="15718" y="8213"/>
                  <a:pt x="15602" y="8210"/>
                </a:cubicBezTo>
                <a:cubicBezTo>
                  <a:pt x="15457" y="8206"/>
                  <a:pt x="15286" y="8474"/>
                  <a:pt x="15354" y="8607"/>
                </a:cubicBezTo>
                <a:cubicBezTo>
                  <a:pt x="15387" y="8624"/>
                  <a:pt x="15420" y="8640"/>
                  <a:pt x="15453" y="8657"/>
                </a:cubicBezTo>
                <a:cubicBezTo>
                  <a:pt x="15669" y="8543"/>
                  <a:pt x="15688" y="8397"/>
                  <a:pt x="15825" y="8260"/>
                </a:cubicBezTo>
                <a:cubicBezTo>
                  <a:pt x="15833" y="8260"/>
                  <a:pt x="15842" y="8260"/>
                  <a:pt x="15850" y="8260"/>
                </a:cubicBezTo>
                <a:cubicBezTo>
                  <a:pt x="15867" y="8475"/>
                  <a:pt x="15893" y="8737"/>
                  <a:pt x="15949" y="8930"/>
                </a:cubicBezTo>
              </a:path>
              <a:path w="3399" h="2953">
                <a:moveTo>
                  <a:pt x="17289" y="7119"/>
                </a:moveTo>
                <a:cubicBezTo>
                  <a:pt x="17256" y="7218"/>
                  <a:pt x="17229" y="7314"/>
                  <a:pt x="17190" y="7417"/>
                </a:cubicBezTo>
                <a:cubicBezTo>
                  <a:pt x="17361" y="7417"/>
                  <a:pt x="17502" y="7357"/>
                  <a:pt x="17661" y="7293"/>
                </a:cubicBezTo>
                <a:cubicBezTo>
                  <a:pt x="17678" y="7285"/>
                  <a:pt x="17694" y="7276"/>
                  <a:pt x="17711" y="7268"/>
                </a:cubicBezTo>
              </a:path>
              <a:path w="3399" h="2953">
                <a:moveTo>
                  <a:pt x="17587" y="6772"/>
                </a:moveTo>
                <a:cubicBezTo>
                  <a:pt x="17565" y="7035"/>
                  <a:pt x="17544" y="7302"/>
                  <a:pt x="17512" y="7565"/>
                </a:cubicBezTo>
                <a:cubicBezTo>
                  <a:pt x="17501" y="7652"/>
                  <a:pt x="17487" y="7691"/>
                  <a:pt x="17487" y="7764"/>
                </a:cubicBezTo>
              </a:path>
              <a:path w="3399" h="2953">
                <a:moveTo>
                  <a:pt x="16470" y="7466"/>
                </a:moveTo>
                <a:cubicBezTo>
                  <a:pt x="16600" y="7466"/>
                  <a:pt x="16714" y="7437"/>
                  <a:pt x="16842" y="7417"/>
                </a:cubicBezTo>
                <a:cubicBezTo>
                  <a:pt x="16882" y="7411"/>
                  <a:pt x="16882" y="7412"/>
                  <a:pt x="16892" y="7441"/>
                </a:cubicBezTo>
              </a:path>
              <a:path w="3399" h="2953">
                <a:moveTo>
                  <a:pt x="15627" y="7863"/>
                </a:moveTo>
                <a:cubicBezTo>
                  <a:pt x="15890" y="7888"/>
                  <a:pt x="16154" y="7832"/>
                  <a:pt x="16421" y="7813"/>
                </a:cubicBezTo>
                <a:cubicBezTo>
                  <a:pt x="16883" y="7780"/>
                  <a:pt x="17386" y="7779"/>
                  <a:pt x="17810" y="7565"/>
                </a:cubicBezTo>
                <a:cubicBezTo>
                  <a:pt x="18039" y="7450"/>
                  <a:pt x="18376" y="7154"/>
                  <a:pt x="18380" y="6871"/>
                </a:cubicBezTo>
                <a:cubicBezTo>
                  <a:pt x="18388" y="6300"/>
                  <a:pt x="17668" y="6058"/>
                  <a:pt x="17214" y="6102"/>
                </a:cubicBezTo>
                <a:cubicBezTo>
                  <a:pt x="16717" y="6150"/>
                  <a:pt x="15225" y="7026"/>
                  <a:pt x="15751" y="7739"/>
                </a:cubicBezTo>
                <a:cubicBezTo>
                  <a:pt x="15875" y="7756"/>
                  <a:pt x="15999" y="7772"/>
                  <a:pt x="16123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276800"/>
            <a:ext cx="125280" cy="28440"/>
          </a:xfrm>
          <a:custGeom>
            <a:avLst/>
            <a:gdLst/>
            <a:ahLst/>
            <a:rect l="l" t="t" r="r" b="b"/>
            <a:pathLst>
              <a:path w="349" h="76">
                <a:moveTo>
                  <a:pt x="9128" y="11956"/>
                </a:moveTo>
                <a:cubicBezTo>
                  <a:pt x="9105" y="11933"/>
                  <a:pt x="9285" y="11878"/>
                  <a:pt x="9351" y="11881"/>
                </a:cubicBezTo>
                <a:cubicBezTo>
                  <a:pt x="9384" y="11882"/>
                  <a:pt x="9412" y="11906"/>
                  <a:pt x="945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56000" y="4160880"/>
            <a:ext cx="36360" cy="214200"/>
          </a:xfrm>
          <a:custGeom>
            <a:avLst/>
            <a:gdLst/>
            <a:ahLst/>
            <a:rect l="l" t="t" r="r" b="b"/>
            <a:pathLst>
              <a:path w="101" h="596">
                <a:moveTo>
                  <a:pt x="9699" y="11559"/>
                </a:moveTo>
                <a:cubicBezTo>
                  <a:pt x="9687" y="11743"/>
                  <a:pt x="9696" y="11989"/>
                  <a:pt x="9599" y="12154"/>
                </a:cubicBezTo>
                <a:cubicBezTo>
                  <a:pt x="9599" y="12146"/>
                  <a:pt x="9599" y="12137"/>
                  <a:pt x="959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081320"/>
            <a:ext cx="115920" cy="27648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0244" y="11385"/>
                </a:moveTo>
                <a:cubicBezTo>
                  <a:pt x="10090" y="11444"/>
                  <a:pt x="10031" y="11523"/>
                  <a:pt x="9947" y="11658"/>
                </a:cubicBezTo>
                <a:cubicBezTo>
                  <a:pt x="10022" y="11749"/>
                  <a:pt x="10222" y="11762"/>
                  <a:pt x="10244" y="11906"/>
                </a:cubicBezTo>
                <a:cubicBezTo>
                  <a:pt x="10221" y="12023"/>
                  <a:pt x="10218" y="12060"/>
                  <a:pt x="10145" y="12105"/>
                </a:cubicBezTo>
                <a:cubicBezTo>
                  <a:pt x="9960" y="12068"/>
                  <a:pt x="10086" y="11919"/>
                  <a:pt x="10145" y="11782"/>
                </a:cubicBezTo>
                <a:cubicBezTo>
                  <a:pt x="10182" y="11697"/>
                  <a:pt x="10337" y="11444"/>
                  <a:pt x="10269" y="11336"/>
                </a:cubicBezTo>
                <a:cubicBezTo>
                  <a:pt x="10241" y="11336"/>
                  <a:pt x="10230" y="11338"/>
                  <a:pt x="10220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70160" y="4010040"/>
            <a:ext cx="812880" cy="419040"/>
          </a:xfrm>
          <a:custGeom>
            <a:avLst/>
            <a:gdLst/>
            <a:ahLst/>
            <a:rect l="l" t="t" r="r" b="b"/>
            <a:pathLst>
              <a:path w="2258" h="1167">
                <a:moveTo>
                  <a:pt x="8806" y="12303"/>
                </a:moveTo>
                <a:cubicBezTo>
                  <a:pt x="8854" y="12099"/>
                  <a:pt x="8840" y="11973"/>
                  <a:pt x="8830" y="11757"/>
                </a:cubicBezTo>
                <a:cubicBezTo>
                  <a:pt x="8825" y="11647"/>
                  <a:pt x="8818" y="11543"/>
                  <a:pt x="8806" y="11435"/>
                </a:cubicBezTo>
                <a:cubicBezTo>
                  <a:pt x="9036" y="11404"/>
                  <a:pt x="9268" y="11379"/>
                  <a:pt x="9500" y="11361"/>
                </a:cubicBezTo>
                <a:cubicBezTo>
                  <a:pt x="9921" y="11328"/>
                  <a:pt x="10324" y="11233"/>
                  <a:pt x="10740" y="11162"/>
                </a:cubicBezTo>
                <a:cubicBezTo>
                  <a:pt x="10854" y="11143"/>
                  <a:pt x="10951" y="11142"/>
                  <a:pt x="11063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1760" y="43038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7615" y="11956"/>
                </a:moveTo>
                <a:cubicBezTo>
                  <a:pt x="7701" y="11956"/>
                  <a:pt x="7819" y="11929"/>
                  <a:pt x="788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9240" y="4179960"/>
            <a:ext cx="179640" cy="204840"/>
          </a:xfrm>
          <a:custGeom>
            <a:avLst/>
            <a:gdLst/>
            <a:ahLst/>
            <a:rect l="l" t="t" r="r" b="b"/>
            <a:pathLst>
              <a:path w="497" h="571">
                <a:moveTo>
                  <a:pt x="8210" y="11609"/>
                </a:moveTo>
                <a:cubicBezTo>
                  <a:pt x="8188" y="11719"/>
                  <a:pt x="8154" y="11818"/>
                  <a:pt x="8136" y="11931"/>
                </a:cubicBezTo>
                <a:cubicBezTo>
                  <a:pt x="8119" y="12042"/>
                  <a:pt x="8094" y="12151"/>
                  <a:pt x="8235" y="12179"/>
                </a:cubicBezTo>
                <a:cubicBezTo>
                  <a:pt x="8331" y="12198"/>
                  <a:pt x="8465" y="12116"/>
                  <a:pt x="8533" y="12055"/>
                </a:cubicBezTo>
                <a:cubicBezTo>
                  <a:pt x="8597" y="11998"/>
                  <a:pt x="8607" y="11962"/>
                  <a:pt x="8607" y="11881"/>
                </a:cubicBezTo>
                <a:cubicBezTo>
                  <a:pt x="8553" y="11864"/>
                  <a:pt x="8460" y="11827"/>
                  <a:pt x="8409" y="11881"/>
                </a:cubicBezTo>
                <a:cubicBezTo>
                  <a:pt x="8341" y="11953"/>
                  <a:pt x="8334" y="12013"/>
                  <a:pt x="8334" y="12105"/>
                </a:cubicBezTo>
                <a:cubicBezTo>
                  <a:pt x="8334" y="12129"/>
                  <a:pt x="8334" y="12138"/>
                  <a:pt x="8334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51160" y="4589640"/>
            <a:ext cx="79560" cy="9360"/>
          </a:xfrm>
          <a:custGeom>
            <a:avLst/>
            <a:gdLst/>
            <a:ahLst/>
            <a:rect l="l" t="t" r="r" b="b"/>
            <a:pathLst>
              <a:path w="224" h="25">
                <a:moveTo>
                  <a:pt x="9029" y="12774"/>
                </a:moveTo>
                <a:cubicBezTo>
                  <a:pt x="9106" y="12766"/>
                  <a:pt x="9173" y="12750"/>
                  <a:pt x="9252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51160" y="4697280"/>
            <a:ext cx="606600" cy="61920"/>
          </a:xfrm>
          <a:custGeom>
            <a:avLst/>
            <a:gdLst/>
            <a:ahLst/>
            <a:rect l="l" t="t" r="r" b="b"/>
            <a:pathLst>
              <a:path w="1688" h="175">
                <a:moveTo>
                  <a:pt x="9029" y="13221"/>
                </a:moveTo>
                <a:cubicBezTo>
                  <a:pt x="9385" y="13163"/>
                  <a:pt x="9740" y="13146"/>
                  <a:pt x="10096" y="13097"/>
                </a:cubicBezTo>
                <a:cubicBezTo>
                  <a:pt x="10311" y="13067"/>
                  <a:pt x="10499" y="13047"/>
                  <a:pt x="1071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98920" y="3724200"/>
            <a:ext cx="1332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9996" y="10567"/>
                </a:moveTo>
                <a:cubicBezTo>
                  <a:pt x="10050" y="10433"/>
                  <a:pt x="10130" y="10376"/>
                  <a:pt x="10269" y="10344"/>
                </a:cubicBezTo>
                <a:cubicBezTo>
                  <a:pt x="10289" y="10520"/>
                  <a:pt x="10291" y="10603"/>
                  <a:pt x="10145" y="10716"/>
                </a:cubicBezTo>
                <a:cubicBezTo>
                  <a:pt x="10210" y="10678"/>
                  <a:pt x="10410" y="10614"/>
                  <a:pt x="10368" y="10790"/>
                </a:cubicBezTo>
                <a:cubicBezTo>
                  <a:pt x="10340" y="10909"/>
                  <a:pt x="10193" y="11072"/>
                  <a:pt x="10096" y="10988"/>
                </a:cubicBezTo>
                <a:cubicBezTo>
                  <a:pt x="10088" y="10980"/>
                  <a:pt x="10079" y="10972"/>
                  <a:pt x="1007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510080"/>
            <a:ext cx="9360" cy="169920"/>
          </a:xfrm>
          <a:custGeom>
            <a:avLst/>
            <a:gdLst/>
            <a:ahLst/>
            <a:rect l="l" t="t" r="r" b="b"/>
            <a:pathLst>
              <a:path w="25" h="473">
                <a:moveTo>
                  <a:pt x="9699" y="12526"/>
                </a:moveTo>
                <a:cubicBezTo>
                  <a:pt x="9720" y="12685"/>
                  <a:pt x="9723" y="12837"/>
                  <a:pt x="972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98920" y="4446720"/>
            <a:ext cx="125280" cy="20628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10220" y="12353"/>
                </a:moveTo>
                <a:cubicBezTo>
                  <a:pt x="10193" y="12382"/>
                  <a:pt x="9973" y="12624"/>
                  <a:pt x="9996" y="12650"/>
                </a:cubicBezTo>
                <a:cubicBezTo>
                  <a:pt x="10120" y="12789"/>
                  <a:pt x="10276" y="12663"/>
                  <a:pt x="10344" y="12849"/>
                </a:cubicBezTo>
                <a:cubicBezTo>
                  <a:pt x="10270" y="12922"/>
                  <a:pt x="10246" y="12947"/>
                  <a:pt x="10170" y="12898"/>
                </a:cubicBezTo>
                <a:cubicBezTo>
                  <a:pt x="10167" y="12844"/>
                  <a:pt x="10265" y="12387"/>
                  <a:pt x="10244" y="12378"/>
                </a:cubicBezTo>
                <a:cubicBezTo>
                  <a:pt x="10211" y="12394"/>
                  <a:pt x="10178" y="12411"/>
                  <a:pt x="10145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87840" y="4776840"/>
            <a:ext cx="98280" cy="189000"/>
          </a:xfrm>
          <a:custGeom>
            <a:avLst/>
            <a:gdLst/>
            <a:ahLst/>
            <a:rect l="l" t="t" r="r" b="b"/>
            <a:pathLst>
              <a:path w="274" h="521">
                <a:moveTo>
                  <a:pt x="10418" y="13295"/>
                </a:moveTo>
                <a:cubicBezTo>
                  <a:pt x="10397" y="13235"/>
                  <a:pt x="10369" y="13285"/>
                  <a:pt x="10344" y="13320"/>
                </a:cubicBezTo>
                <a:cubicBezTo>
                  <a:pt x="10249" y="13449"/>
                  <a:pt x="10185" y="13619"/>
                  <a:pt x="10294" y="13767"/>
                </a:cubicBezTo>
                <a:cubicBezTo>
                  <a:pt x="10311" y="13775"/>
                  <a:pt x="10327" y="13783"/>
                  <a:pt x="10344" y="13791"/>
                </a:cubicBezTo>
                <a:cubicBezTo>
                  <a:pt x="10515" y="13678"/>
                  <a:pt x="10546" y="13548"/>
                  <a:pt x="10468" y="13345"/>
                </a:cubicBezTo>
                <a:cubicBezTo>
                  <a:pt x="10431" y="13250"/>
                  <a:pt x="10405" y="13259"/>
                  <a:pt x="10344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8080" y="4170240"/>
            <a:ext cx="331920" cy="295560"/>
          </a:xfrm>
          <a:custGeom>
            <a:avLst/>
            <a:gdLst/>
            <a:ahLst/>
            <a:rect l="l" t="t" r="r" b="b"/>
            <a:pathLst>
              <a:path w="919" h="819">
                <a:moveTo>
                  <a:pt x="9029" y="12278"/>
                </a:moveTo>
                <a:cubicBezTo>
                  <a:pt x="9146" y="12278"/>
                  <a:pt x="9261" y="12287"/>
                  <a:pt x="9376" y="12254"/>
                </a:cubicBezTo>
                <a:cubicBezTo>
                  <a:pt x="9540" y="12207"/>
                  <a:pt x="9705" y="12048"/>
                  <a:pt x="9748" y="11881"/>
                </a:cubicBezTo>
                <a:cubicBezTo>
                  <a:pt x="9791" y="11712"/>
                  <a:pt x="9566" y="11592"/>
                  <a:pt x="9426" y="11584"/>
                </a:cubicBezTo>
                <a:cubicBezTo>
                  <a:pt x="9269" y="11575"/>
                  <a:pt x="8959" y="11717"/>
                  <a:pt x="8880" y="11857"/>
                </a:cubicBezTo>
                <a:cubicBezTo>
                  <a:pt x="8704" y="12170"/>
                  <a:pt x="8911" y="12308"/>
                  <a:pt x="915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08200" y="4160880"/>
            <a:ext cx="303120" cy="28728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7590" y="12204"/>
                </a:moveTo>
                <a:cubicBezTo>
                  <a:pt x="7582" y="12204"/>
                  <a:pt x="7573" y="12204"/>
                  <a:pt x="7565" y="12204"/>
                </a:cubicBezTo>
                <a:cubicBezTo>
                  <a:pt x="7496" y="12300"/>
                  <a:pt x="7635" y="12316"/>
                  <a:pt x="7714" y="12303"/>
                </a:cubicBezTo>
                <a:cubicBezTo>
                  <a:pt x="7899" y="12272"/>
                  <a:pt x="8050" y="12168"/>
                  <a:pt x="8086" y="11981"/>
                </a:cubicBezTo>
                <a:cubicBezTo>
                  <a:pt x="8116" y="11825"/>
                  <a:pt x="7980" y="11706"/>
                  <a:pt x="7863" y="11633"/>
                </a:cubicBezTo>
                <a:cubicBezTo>
                  <a:pt x="7742" y="11557"/>
                  <a:pt x="7617" y="11524"/>
                  <a:pt x="7491" y="11609"/>
                </a:cubicBezTo>
                <a:cubicBezTo>
                  <a:pt x="7384" y="11682"/>
                  <a:pt x="7227" y="11806"/>
                  <a:pt x="7243" y="11956"/>
                </a:cubicBezTo>
                <a:cubicBezTo>
                  <a:pt x="7264" y="12154"/>
                  <a:pt x="7445" y="12345"/>
                  <a:pt x="7640" y="12353"/>
                </a:cubicBezTo>
                <a:cubicBezTo>
                  <a:pt x="7763" y="12328"/>
                  <a:pt x="7804" y="12320"/>
                  <a:pt x="7863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0080" y="3625920"/>
            <a:ext cx="588960" cy="465120"/>
          </a:xfrm>
          <a:custGeom>
            <a:avLst/>
            <a:gdLst/>
            <a:ahLst/>
            <a:rect l="l" t="t" r="r" b="b"/>
            <a:pathLst>
              <a:path w="1638" h="1291">
                <a:moveTo>
                  <a:pt x="9699" y="11212"/>
                </a:moveTo>
                <a:cubicBezTo>
                  <a:pt x="9834" y="11242"/>
                  <a:pt x="9965" y="11320"/>
                  <a:pt x="10120" y="11286"/>
                </a:cubicBezTo>
                <a:cubicBezTo>
                  <a:pt x="10362" y="11233"/>
                  <a:pt x="10637" y="11087"/>
                  <a:pt x="10790" y="10889"/>
                </a:cubicBezTo>
                <a:cubicBezTo>
                  <a:pt x="10955" y="10676"/>
                  <a:pt x="10985" y="10362"/>
                  <a:pt x="10765" y="10195"/>
                </a:cubicBezTo>
                <a:cubicBezTo>
                  <a:pt x="10501" y="9994"/>
                  <a:pt x="10132" y="10081"/>
                  <a:pt x="9847" y="10170"/>
                </a:cubicBezTo>
                <a:cubicBezTo>
                  <a:pt x="9586" y="10251"/>
                  <a:pt x="9266" y="10313"/>
                  <a:pt x="9277" y="10641"/>
                </a:cubicBezTo>
                <a:cubicBezTo>
                  <a:pt x="9292" y="11065"/>
                  <a:pt x="9510" y="11451"/>
                  <a:pt x="9971" y="11311"/>
                </a:cubicBezTo>
                <a:cubicBezTo>
                  <a:pt x="10151" y="11256"/>
                  <a:pt x="10328" y="11096"/>
                  <a:pt x="10492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y some on your own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371600" y="1752480"/>
          <a:ext cx="495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495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523880" y="3429000"/>
          <a:ext cx="6858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29000"/>
                    <a:ext cx="685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371600" y="5105520"/>
          <a:ext cx="16891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055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527280" y="3313080"/>
            <a:ext cx="250920" cy="1411200"/>
          </a:xfrm>
          <a:custGeom>
            <a:avLst/>
            <a:gdLst/>
            <a:ahLst/>
            <a:rect l="l" t="t" r="r" b="b"/>
            <a:pathLst>
              <a:path w="695" h="3920">
                <a:moveTo>
                  <a:pt x="9798" y="11361"/>
                </a:moveTo>
                <a:lnTo>
                  <a:pt x="9798" y="11361"/>
                </a:lnTo>
              </a:path>
              <a:path w="695" h="3920">
                <a:moveTo>
                  <a:pt x="9798" y="11361"/>
                </a:moveTo>
                <a:lnTo>
                  <a:pt x="9798" y="11361"/>
                </a:lnTo>
              </a:path>
              <a:path w="695" h="3920">
                <a:moveTo>
                  <a:pt x="10046" y="9203"/>
                </a:moveTo>
                <a:lnTo>
                  <a:pt x="10046" y="9203"/>
                </a:lnTo>
                <a:lnTo>
                  <a:pt x="10046" y="9203"/>
                </a:lnTo>
                <a:lnTo>
                  <a:pt x="10046" y="9203"/>
                </a:lnTo>
              </a:path>
              <a:path w="695" h="3920">
                <a:moveTo>
                  <a:pt x="10492" y="13097"/>
                </a:moveTo>
                <a:cubicBezTo>
                  <a:pt x="10484" y="13105"/>
                  <a:pt x="10476" y="13114"/>
                  <a:pt x="10468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1608120"/>
            <a:ext cx="1778040" cy="3678120"/>
          </a:xfrm>
          <a:custGeom>
            <a:avLst/>
            <a:gdLst/>
            <a:ahLst/>
            <a:rect l="l" t="t" r="r" b="b"/>
            <a:pathLst>
              <a:path w="4937" h="10220">
                <a:moveTo>
                  <a:pt x="8706" y="5928"/>
                </a:moveTo>
                <a:cubicBezTo>
                  <a:pt x="8686" y="5903"/>
                  <a:pt x="8647" y="5859"/>
                  <a:pt x="8632" y="5854"/>
                </a:cubicBezTo>
                <a:cubicBezTo>
                  <a:pt x="8586" y="5839"/>
                  <a:pt x="8534" y="5844"/>
                  <a:pt x="8508" y="5854"/>
                </a:cubicBezTo>
                <a:cubicBezTo>
                  <a:pt x="8446" y="5877"/>
                  <a:pt x="8451" y="5887"/>
                  <a:pt x="8409" y="5928"/>
                </a:cubicBezTo>
                <a:cubicBezTo>
                  <a:pt x="8364" y="5972"/>
                  <a:pt x="8334" y="6066"/>
                  <a:pt x="8310" y="6127"/>
                </a:cubicBezTo>
                <a:cubicBezTo>
                  <a:pt x="8274" y="6218"/>
                  <a:pt x="8239" y="6272"/>
                  <a:pt x="8235" y="6375"/>
                </a:cubicBezTo>
                <a:cubicBezTo>
                  <a:pt x="8231" y="6493"/>
                  <a:pt x="8281" y="6572"/>
                  <a:pt x="8334" y="6672"/>
                </a:cubicBezTo>
                <a:cubicBezTo>
                  <a:pt x="8416" y="6826"/>
                  <a:pt x="8515" y="6841"/>
                  <a:pt x="8682" y="6846"/>
                </a:cubicBezTo>
                <a:cubicBezTo>
                  <a:pt x="8844" y="6851"/>
                  <a:pt x="8916" y="6773"/>
                  <a:pt x="9004" y="6648"/>
                </a:cubicBezTo>
                <a:cubicBezTo>
                  <a:pt x="9062" y="6566"/>
                  <a:pt x="9111" y="6449"/>
                  <a:pt x="9128" y="6350"/>
                </a:cubicBezTo>
                <a:cubicBezTo>
                  <a:pt x="9140" y="6280"/>
                  <a:pt x="9113" y="6285"/>
                  <a:pt x="9079" y="6226"/>
                </a:cubicBezTo>
                <a:cubicBezTo>
                  <a:pt x="9010" y="6105"/>
                  <a:pt x="8964" y="6124"/>
                  <a:pt x="8880" y="6028"/>
                </a:cubicBezTo>
                <a:cubicBezTo>
                  <a:pt x="8855" y="5978"/>
                  <a:pt x="8847" y="5962"/>
                  <a:pt x="8806" y="5953"/>
                </a:cubicBezTo>
              </a:path>
              <a:path w="4937" h="10220">
                <a:moveTo>
                  <a:pt x="7516" y="6772"/>
                </a:moveTo>
                <a:cubicBezTo>
                  <a:pt x="7564" y="6754"/>
                  <a:pt x="7591" y="6760"/>
                  <a:pt x="7640" y="6722"/>
                </a:cubicBezTo>
                <a:cubicBezTo>
                  <a:pt x="7737" y="6645"/>
                  <a:pt x="7826" y="6507"/>
                  <a:pt x="7888" y="6400"/>
                </a:cubicBezTo>
                <a:cubicBezTo>
                  <a:pt x="7946" y="6300"/>
                  <a:pt x="7958" y="6207"/>
                  <a:pt x="7987" y="6102"/>
                </a:cubicBezTo>
                <a:cubicBezTo>
                  <a:pt x="8008" y="6025"/>
                  <a:pt x="8010" y="5970"/>
                  <a:pt x="8012" y="5879"/>
                </a:cubicBezTo>
                <a:cubicBezTo>
                  <a:pt x="8015" y="5747"/>
                  <a:pt x="8012" y="5614"/>
                  <a:pt x="8012" y="5482"/>
                </a:cubicBezTo>
                <a:cubicBezTo>
                  <a:pt x="8086" y="5476"/>
                  <a:pt x="8164" y="5473"/>
                  <a:pt x="8235" y="5457"/>
                </a:cubicBezTo>
                <a:cubicBezTo>
                  <a:pt x="8353" y="5431"/>
                  <a:pt x="8486" y="5416"/>
                  <a:pt x="8607" y="5407"/>
                </a:cubicBezTo>
                <a:cubicBezTo>
                  <a:pt x="8753" y="5396"/>
                  <a:pt x="8886" y="5428"/>
                  <a:pt x="9029" y="5432"/>
                </a:cubicBezTo>
                <a:cubicBezTo>
                  <a:pt x="9164" y="5436"/>
                  <a:pt x="9290" y="5457"/>
                  <a:pt x="9426" y="5457"/>
                </a:cubicBezTo>
                <a:cubicBezTo>
                  <a:pt x="9570" y="5457"/>
                  <a:pt x="9620" y="5489"/>
                  <a:pt x="9748" y="5556"/>
                </a:cubicBezTo>
              </a:path>
              <a:path w="4937" h="10220">
                <a:moveTo>
                  <a:pt x="6449" y="5804"/>
                </a:moveTo>
                <a:cubicBezTo>
                  <a:pt x="6486" y="5730"/>
                  <a:pt x="6524" y="5752"/>
                  <a:pt x="6598" y="5730"/>
                </a:cubicBezTo>
                <a:cubicBezTo>
                  <a:pt x="6690" y="5702"/>
                  <a:pt x="6775" y="5666"/>
                  <a:pt x="6871" y="5655"/>
                </a:cubicBezTo>
                <a:cubicBezTo>
                  <a:pt x="6935" y="5648"/>
                  <a:pt x="7005" y="5655"/>
                  <a:pt x="7069" y="5655"/>
                </a:cubicBezTo>
              </a:path>
              <a:path w="4937" h="10220">
                <a:moveTo>
                  <a:pt x="7367" y="5358"/>
                </a:moveTo>
                <a:cubicBezTo>
                  <a:pt x="7367" y="5594"/>
                  <a:pt x="7409" y="5880"/>
                  <a:pt x="7342" y="6102"/>
                </a:cubicBezTo>
                <a:cubicBezTo>
                  <a:pt x="7420" y="6123"/>
                  <a:pt x="7506" y="6161"/>
                  <a:pt x="7590" y="6152"/>
                </a:cubicBezTo>
                <a:cubicBezTo>
                  <a:pt x="7724" y="6137"/>
                  <a:pt x="7784" y="6104"/>
                  <a:pt x="7838" y="5978"/>
                </a:cubicBezTo>
                <a:cubicBezTo>
                  <a:pt x="7898" y="5839"/>
                  <a:pt x="7905" y="5704"/>
                  <a:pt x="7913" y="5556"/>
                </a:cubicBezTo>
                <a:cubicBezTo>
                  <a:pt x="7881" y="5712"/>
                  <a:pt x="7857" y="5820"/>
                  <a:pt x="7838" y="5978"/>
                </a:cubicBezTo>
                <a:cubicBezTo>
                  <a:pt x="7808" y="6226"/>
                  <a:pt x="7829" y="6477"/>
                  <a:pt x="7789" y="6722"/>
                </a:cubicBezTo>
                <a:cubicBezTo>
                  <a:pt x="7789" y="6714"/>
                  <a:pt x="7789" y="6705"/>
                  <a:pt x="7789" y="6697"/>
                </a:cubicBezTo>
              </a:path>
              <a:path w="4937" h="10220">
                <a:moveTo>
                  <a:pt x="8905" y="4539"/>
                </a:moveTo>
                <a:cubicBezTo>
                  <a:pt x="8798" y="4504"/>
                  <a:pt x="8752" y="4473"/>
                  <a:pt x="8632" y="4514"/>
                </a:cubicBezTo>
                <a:cubicBezTo>
                  <a:pt x="8515" y="4554"/>
                  <a:pt x="8442" y="4753"/>
                  <a:pt x="8434" y="4862"/>
                </a:cubicBezTo>
                <a:cubicBezTo>
                  <a:pt x="8421" y="5027"/>
                  <a:pt x="8522" y="5264"/>
                  <a:pt x="8682" y="5333"/>
                </a:cubicBezTo>
                <a:cubicBezTo>
                  <a:pt x="8818" y="5392"/>
                  <a:pt x="8932" y="5269"/>
                  <a:pt x="8979" y="5159"/>
                </a:cubicBezTo>
                <a:cubicBezTo>
                  <a:pt x="9054" y="4982"/>
                  <a:pt x="9051" y="4744"/>
                  <a:pt x="8979" y="4564"/>
                </a:cubicBezTo>
                <a:cubicBezTo>
                  <a:pt x="8936" y="4499"/>
                  <a:pt x="8930" y="4479"/>
                  <a:pt x="8880" y="4465"/>
                </a:cubicBezTo>
              </a:path>
              <a:path w="4937" h="10220">
                <a:moveTo>
                  <a:pt x="8781" y="7045"/>
                </a:moveTo>
                <a:cubicBezTo>
                  <a:pt x="8746" y="6974"/>
                  <a:pt x="8687" y="6884"/>
                  <a:pt x="8607" y="6871"/>
                </a:cubicBezTo>
                <a:cubicBezTo>
                  <a:pt x="8498" y="6853"/>
                  <a:pt x="8428" y="6980"/>
                  <a:pt x="8409" y="7069"/>
                </a:cubicBezTo>
                <a:cubicBezTo>
                  <a:pt x="8378" y="7214"/>
                  <a:pt x="8356" y="7488"/>
                  <a:pt x="8508" y="7590"/>
                </a:cubicBezTo>
                <a:cubicBezTo>
                  <a:pt x="8673" y="7700"/>
                  <a:pt x="8864" y="7567"/>
                  <a:pt x="8930" y="7417"/>
                </a:cubicBezTo>
                <a:cubicBezTo>
                  <a:pt x="9000" y="7258"/>
                  <a:pt x="8932" y="7051"/>
                  <a:pt x="8781" y="6970"/>
                </a:cubicBezTo>
                <a:cubicBezTo>
                  <a:pt x="8748" y="6962"/>
                  <a:pt x="8715" y="6953"/>
                  <a:pt x="8682" y="6945"/>
                </a:cubicBezTo>
              </a:path>
              <a:path w="4937" h="10220">
                <a:moveTo>
                  <a:pt x="7714" y="6821"/>
                </a:moveTo>
                <a:cubicBezTo>
                  <a:pt x="7865" y="6813"/>
                  <a:pt x="8009" y="6796"/>
                  <a:pt x="8161" y="6796"/>
                </a:cubicBezTo>
              </a:path>
              <a:path w="4937" h="10220">
                <a:moveTo>
                  <a:pt x="7590" y="7913"/>
                </a:moveTo>
                <a:cubicBezTo>
                  <a:pt x="7721" y="7904"/>
                  <a:pt x="7856" y="7861"/>
                  <a:pt x="7987" y="7863"/>
                </a:cubicBezTo>
                <a:cubicBezTo>
                  <a:pt x="8317" y="7868"/>
                  <a:pt x="8646" y="7972"/>
                  <a:pt x="8979" y="7987"/>
                </a:cubicBezTo>
                <a:cubicBezTo>
                  <a:pt x="9029" y="7989"/>
                  <a:pt x="9512" y="7937"/>
                  <a:pt x="9550" y="8012"/>
                </a:cubicBezTo>
                <a:cubicBezTo>
                  <a:pt x="9550" y="8062"/>
                  <a:pt x="9550" y="8095"/>
                  <a:pt x="9550" y="8136"/>
                </a:cubicBezTo>
              </a:path>
              <a:path w="4937" h="10220">
                <a:moveTo>
                  <a:pt x="8682" y="8285"/>
                </a:moveTo>
                <a:cubicBezTo>
                  <a:pt x="8682" y="8240"/>
                  <a:pt x="8685" y="8227"/>
                  <a:pt x="8657" y="8210"/>
                </a:cubicBezTo>
                <a:cubicBezTo>
                  <a:pt x="8567" y="8188"/>
                  <a:pt x="8546" y="8225"/>
                  <a:pt x="8458" y="8260"/>
                </a:cubicBezTo>
                <a:cubicBezTo>
                  <a:pt x="8368" y="8295"/>
                  <a:pt x="8304" y="8404"/>
                  <a:pt x="8285" y="8508"/>
                </a:cubicBezTo>
                <a:cubicBezTo>
                  <a:pt x="8264" y="8618"/>
                  <a:pt x="8336" y="8845"/>
                  <a:pt x="8434" y="8905"/>
                </a:cubicBezTo>
                <a:cubicBezTo>
                  <a:pt x="8593" y="9002"/>
                  <a:pt x="8853" y="8914"/>
                  <a:pt x="8930" y="8756"/>
                </a:cubicBezTo>
                <a:cubicBezTo>
                  <a:pt x="9018" y="8576"/>
                  <a:pt x="8954" y="8270"/>
                  <a:pt x="8855" y="8111"/>
                </a:cubicBezTo>
                <a:cubicBezTo>
                  <a:pt x="8808" y="8035"/>
                  <a:pt x="8759" y="8025"/>
                  <a:pt x="8682" y="8012"/>
                </a:cubicBezTo>
              </a:path>
              <a:path w="4937" h="10220">
                <a:moveTo>
                  <a:pt x="9327" y="9723"/>
                </a:moveTo>
                <a:cubicBezTo>
                  <a:pt x="9314" y="9730"/>
                  <a:pt x="9245" y="9789"/>
                  <a:pt x="9203" y="9798"/>
                </a:cubicBezTo>
                <a:cubicBezTo>
                  <a:pt x="9136" y="9812"/>
                  <a:pt x="9076" y="9861"/>
                  <a:pt x="9004" y="9897"/>
                </a:cubicBezTo>
                <a:cubicBezTo>
                  <a:pt x="8950" y="9924"/>
                  <a:pt x="8880" y="9947"/>
                  <a:pt x="8880" y="10021"/>
                </a:cubicBezTo>
                <a:cubicBezTo>
                  <a:pt x="8880" y="10033"/>
                  <a:pt x="8910" y="10100"/>
                  <a:pt x="8905" y="10145"/>
                </a:cubicBezTo>
                <a:cubicBezTo>
                  <a:pt x="8896" y="10232"/>
                  <a:pt x="8905" y="10320"/>
                  <a:pt x="8930" y="10393"/>
                </a:cubicBezTo>
                <a:cubicBezTo>
                  <a:pt x="8939" y="10418"/>
                  <a:pt x="8929" y="10516"/>
                  <a:pt x="8930" y="10517"/>
                </a:cubicBezTo>
                <a:cubicBezTo>
                  <a:pt x="8941" y="10528"/>
                  <a:pt x="8991" y="10535"/>
                  <a:pt x="9004" y="10542"/>
                </a:cubicBezTo>
                <a:cubicBezTo>
                  <a:pt x="9050" y="10567"/>
                  <a:pt x="9100" y="10578"/>
                  <a:pt x="9153" y="10592"/>
                </a:cubicBezTo>
                <a:cubicBezTo>
                  <a:pt x="9218" y="10608"/>
                  <a:pt x="9302" y="10631"/>
                  <a:pt x="9376" y="10641"/>
                </a:cubicBezTo>
                <a:cubicBezTo>
                  <a:pt x="9462" y="10653"/>
                  <a:pt x="9552" y="10638"/>
                  <a:pt x="9624" y="10616"/>
                </a:cubicBezTo>
                <a:cubicBezTo>
                  <a:pt x="9671" y="10602"/>
                  <a:pt x="9707" y="10587"/>
                  <a:pt x="9748" y="10567"/>
                </a:cubicBezTo>
                <a:cubicBezTo>
                  <a:pt x="9790" y="10546"/>
                  <a:pt x="9844" y="10554"/>
                  <a:pt x="9872" y="10517"/>
                </a:cubicBezTo>
                <a:cubicBezTo>
                  <a:pt x="9893" y="10489"/>
                  <a:pt x="9872" y="10402"/>
                  <a:pt x="9872" y="10393"/>
                </a:cubicBezTo>
                <a:cubicBezTo>
                  <a:pt x="9872" y="10309"/>
                  <a:pt x="9868" y="10241"/>
                  <a:pt x="9847" y="10170"/>
                </a:cubicBezTo>
                <a:cubicBezTo>
                  <a:pt x="9821" y="10086"/>
                  <a:pt x="9788" y="10020"/>
                  <a:pt x="9748" y="9947"/>
                </a:cubicBezTo>
                <a:cubicBezTo>
                  <a:pt x="9734" y="9922"/>
                  <a:pt x="9714" y="9883"/>
                  <a:pt x="9699" y="9872"/>
                </a:cubicBezTo>
                <a:cubicBezTo>
                  <a:pt x="9659" y="9843"/>
                  <a:pt x="9593" y="9822"/>
                  <a:pt x="9550" y="9798"/>
                </a:cubicBezTo>
                <a:cubicBezTo>
                  <a:pt x="9483" y="9762"/>
                  <a:pt x="9479" y="9755"/>
                  <a:pt x="9475" y="9773"/>
                </a:cubicBezTo>
                <a:cubicBezTo>
                  <a:pt x="9464" y="9827"/>
                  <a:pt x="9486" y="9854"/>
                  <a:pt x="9500" y="9897"/>
                </a:cubicBezTo>
                <a:cubicBezTo>
                  <a:pt x="9514" y="9938"/>
                  <a:pt x="9543" y="9976"/>
                  <a:pt x="9550" y="10021"/>
                </a:cubicBezTo>
                <a:cubicBezTo>
                  <a:pt x="9563" y="10096"/>
                  <a:pt x="9575" y="10166"/>
                  <a:pt x="9575" y="10244"/>
                </a:cubicBezTo>
                <a:cubicBezTo>
                  <a:pt x="9575" y="10318"/>
                  <a:pt x="9604" y="10423"/>
                  <a:pt x="9624" y="10492"/>
                </a:cubicBezTo>
                <a:cubicBezTo>
                  <a:pt x="9638" y="10540"/>
                  <a:pt x="9677" y="10615"/>
                  <a:pt x="9699" y="10666"/>
                </a:cubicBezTo>
                <a:cubicBezTo>
                  <a:pt x="9733" y="10746"/>
                  <a:pt x="9780" y="10836"/>
                  <a:pt x="9798" y="10914"/>
                </a:cubicBezTo>
                <a:cubicBezTo>
                  <a:pt x="9816" y="10992"/>
                  <a:pt x="9823" y="11080"/>
                  <a:pt x="9823" y="11162"/>
                </a:cubicBezTo>
                <a:cubicBezTo>
                  <a:pt x="9823" y="11209"/>
                  <a:pt x="9830" y="11208"/>
                  <a:pt x="9847" y="11237"/>
                </a:cubicBezTo>
                <a:cubicBezTo>
                  <a:pt x="9856" y="11252"/>
                  <a:pt x="9846" y="11263"/>
                  <a:pt x="9798" y="11361"/>
                </a:cubicBezTo>
              </a:path>
              <a:path w="4937" h="10220">
                <a:moveTo>
                  <a:pt x="10740" y="9674"/>
                </a:moveTo>
                <a:cubicBezTo>
                  <a:pt x="10699" y="9660"/>
                  <a:pt x="10635" y="9631"/>
                  <a:pt x="10592" y="9624"/>
                </a:cubicBezTo>
                <a:cubicBezTo>
                  <a:pt x="10551" y="9617"/>
                  <a:pt x="10476" y="9632"/>
                  <a:pt x="10443" y="9649"/>
                </a:cubicBezTo>
                <a:cubicBezTo>
                  <a:pt x="10379" y="9681"/>
                  <a:pt x="10353" y="9690"/>
                  <a:pt x="10294" y="9748"/>
                </a:cubicBezTo>
                <a:cubicBezTo>
                  <a:pt x="10256" y="9786"/>
                  <a:pt x="10204" y="9838"/>
                  <a:pt x="10195" y="9872"/>
                </a:cubicBezTo>
                <a:cubicBezTo>
                  <a:pt x="10171" y="9962"/>
                  <a:pt x="10206" y="10063"/>
                  <a:pt x="10220" y="10145"/>
                </a:cubicBezTo>
                <a:cubicBezTo>
                  <a:pt x="10225" y="10177"/>
                  <a:pt x="10244" y="10243"/>
                  <a:pt x="10244" y="10244"/>
                </a:cubicBezTo>
                <a:cubicBezTo>
                  <a:pt x="10255" y="10301"/>
                  <a:pt x="10259" y="10369"/>
                  <a:pt x="10269" y="10418"/>
                </a:cubicBezTo>
                <a:cubicBezTo>
                  <a:pt x="10279" y="10467"/>
                  <a:pt x="10260" y="10475"/>
                  <a:pt x="10294" y="10517"/>
                </a:cubicBezTo>
                <a:cubicBezTo>
                  <a:pt x="10313" y="10540"/>
                  <a:pt x="10335" y="10580"/>
                  <a:pt x="10368" y="10616"/>
                </a:cubicBezTo>
                <a:cubicBezTo>
                  <a:pt x="10397" y="10649"/>
                  <a:pt x="10454" y="10692"/>
                  <a:pt x="10492" y="10716"/>
                </a:cubicBezTo>
                <a:cubicBezTo>
                  <a:pt x="10560" y="10759"/>
                  <a:pt x="10662" y="10803"/>
                  <a:pt x="10740" y="10815"/>
                </a:cubicBezTo>
                <a:cubicBezTo>
                  <a:pt x="10796" y="10823"/>
                  <a:pt x="10842" y="10821"/>
                  <a:pt x="10864" y="10790"/>
                </a:cubicBezTo>
                <a:cubicBezTo>
                  <a:pt x="10936" y="10691"/>
                  <a:pt x="10869" y="10520"/>
                  <a:pt x="10840" y="10418"/>
                </a:cubicBezTo>
                <a:cubicBezTo>
                  <a:pt x="10805" y="10299"/>
                  <a:pt x="10780" y="10236"/>
                  <a:pt x="10666" y="10195"/>
                </a:cubicBezTo>
                <a:cubicBezTo>
                  <a:pt x="10546" y="10152"/>
                  <a:pt x="10464" y="10253"/>
                  <a:pt x="10418" y="10368"/>
                </a:cubicBezTo>
                <a:cubicBezTo>
                  <a:pt x="10388" y="10443"/>
                  <a:pt x="10361" y="10521"/>
                  <a:pt x="10344" y="10592"/>
                </a:cubicBezTo>
              </a:path>
              <a:path w="4937" h="10220">
                <a:moveTo>
                  <a:pt x="8880" y="11112"/>
                </a:moveTo>
                <a:cubicBezTo>
                  <a:pt x="8979" y="11000"/>
                  <a:pt x="9068" y="10857"/>
                  <a:pt x="9178" y="10765"/>
                </a:cubicBezTo>
                <a:cubicBezTo>
                  <a:pt x="9218" y="10732"/>
                  <a:pt x="9261" y="10739"/>
                  <a:pt x="9302" y="10716"/>
                </a:cubicBezTo>
                <a:cubicBezTo>
                  <a:pt x="9228" y="10716"/>
                  <a:pt x="9202" y="10706"/>
                  <a:pt x="9128" y="10691"/>
                </a:cubicBezTo>
                <a:cubicBezTo>
                  <a:pt x="9120" y="10691"/>
                  <a:pt x="9111" y="10691"/>
                  <a:pt x="9103" y="10691"/>
                </a:cubicBezTo>
              </a:path>
              <a:path w="4937" h="10220">
                <a:moveTo>
                  <a:pt x="8508" y="11212"/>
                </a:moveTo>
                <a:cubicBezTo>
                  <a:pt x="8452" y="11149"/>
                  <a:pt x="8416" y="11096"/>
                  <a:pt x="8384" y="11013"/>
                </a:cubicBezTo>
                <a:cubicBezTo>
                  <a:pt x="8328" y="10867"/>
                  <a:pt x="8295" y="10712"/>
                  <a:pt x="8235" y="10567"/>
                </a:cubicBezTo>
                <a:cubicBezTo>
                  <a:pt x="8186" y="10449"/>
                  <a:pt x="8102" y="10352"/>
                  <a:pt x="8086" y="10220"/>
                </a:cubicBezTo>
                <a:cubicBezTo>
                  <a:pt x="8066" y="10053"/>
                  <a:pt x="8086" y="9867"/>
                  <a:pt x="8086" y="9699"/>
                </a:cubicBezTo>
                <a:cubicBezTo>
                  <a:pt x="8149" y="9713"/>
                  <a:pt x="8221" y="9739"/>
                  <a:pt x="8285" y="9748"/>
                </a:cubicBezTo>
                <a:cubicBezTo>
                  <a:pt x="8367" y="9760"/>
                  <a:pt x="8451" y="9761"/>
                  <a:pt x="8533" y="9773"/>
                </a:cubicBezTo>
                <a:cubicBezTo>
                  <a:pt x="8607" y="9784"/>
                  <a:pt x="8676" y="9798"/>
                  <a:pt x="8756" y="9798"/>
                </a:cubicBezTo>
                <a:cubicBezTo>
                  <a:pt x="8829" y="9798"/>
                  <a:pt x="8898" y="9817"/>
                  <a:pt x="8954" y="9823"/>
                </a:cubicBezTo>
                <a:cubicBezTo>
                  <a:pt x="9023" y="9831"/>
                  <a:pt x="9058" y="9845"/>
                  <a:pt x="9128" y="9847"/>
                </a:cubicBezTo>
                <a:cubicBezTo>
                  <a:pt x="9185" y="9849"/>
                  <a:pt x="9223" y="9829"/>
                  <a:pt x="9277" y="9823"/>
                </a:cubicBezTo>
                <a:cubicBezTo>
                  <a:pt x="9324" y="9818"/>
                  <a:pt x="9369" y="9846"/>
                  <a:pt x="9376" y="9847"/>
                </a:cubicBezTo>
                <a:cubicBezTo>
                  <a:pt x="9540" y="9867"/>
                  <a:pt x="9716" y="9838"/>
                  <a:pt x="9872" y="9823"/>
                </a:cubicBezTo>
                <a:cubicBezTo>
                  <a:pt x="9922" y="9818"/>
                  <a:pt x="9984" y="9802"/>
                  <a:pt x="10021" y="9798"/>
                </a:cubicBezTo>
                <a:cubicBezTo>
                  <a:pt x="10134" y="9785"/>
                  <a:pt x="10256" y="9783"/>
                  <a:pt x="10368" y="9773"/>
                </a:cubicBezTo>
                <a:cubicBezTo>
                  <a:pt x="10439" y="9767"/>
                  <a:pt x="10498" y="9753"/>
                  <a:pt x="10567" y="9748"/>
                </a:cubicBezTo>
                <a:cubicBezTo>
                  <a:pt x="10680" y="9740"/>
                  <a:pt x="10792" y="9755"/>
                  <a:pt x="10889" y="9773"/>
                </a:cubicBezTo>
              </a:path>
              <a:path w="4937" h="10220">
                <a:moveTo>
                  <a:pt x="7640" y="9996"/>
                </a:moveTo>
                <a:cubicBezTo>
                  <a:pt x="7585" y="9963"/>
                  <a:pt x="7573" y="9953"/>
                  <a:pt x="7491" y="10046"/>
                </a:cubicBezTo>
                <a:cubicBezTo>
                  <a:pt x="7383" y="10170"/>
                  <a:pt x="7372" y="10328"/>
                  <a:pt x="7516" y="10443"/>
                </a:cubicBezTo>
                <a:cubicBezTo>
                  <a:pt x="7647" y="10548"/>
                  <a:pt x="7878" y="10521"/>
                  <a:pt x="7987" y="10666"/>
                </a:cubicBezTo>
                <a:cubicBezTo>
                  <a:pt x="8084" y="10795"/>
                  <a:pt x="8091" y="10985"/>
                  <a:pt x="7962" y="11088"/>
                </a:cubicBezTo>
                <a:cubicBezTo>
                  <a:pt x="7879" y="11154"/>
                  <a:pt x="7845" y="11155"/>
                  <a:pt x="7789" y="11088"/>
                </a:cubicBezTo>
                <a:cubicBezTo>
                  <a:pt x="7747" y="11038"/>
                  <a:pt x="7776" y="10948"/>
                  <a:pt x="7764" y="10889"/>
                </a:cubicBezTo>
                <a:cubicBezTo>
                  <a:pt x="7754" y="10843"/>
                  <a:pt x="7725" y="10790"/>
                  <a:pt x="7739" y="10740"/>
                </a:cubicBezTo>
                <a:cubicBezTo>
                  <a:pt x="7747" y="10709"/>
                  <a:pt x="7750" y="10706"/>
                  <a:pt x="7764" y="10666"/>
                </a:cubicBezTo>
                <a:cubicBezTo>
                  <a:pt x="7776" y="10631"/>
                  <a:pt x="7795" y="10575"/>
                  <a:pt x="7813" y="10542"/>
                </a:cubicBezTo>
                <a:cubicBezTo>
                  <a:pt x="7825" y="10521"/>
                  <a:pt x="7851" y="10507"/>
                  <a:pt x="7838" y="10468"/>
                </a:cubicBezTo>
                <a:cubicBezTo>
                  <a:pt x="7821" y="10418"/>
                  <a:pt x="7761" y="10340"/>
                  <a:pt x="7714" y="10269"/>
                </a:cubicBezTo>
                <a:cubicBezTo>
                  <a:pt x="7508" y="9961"/>
                  <a:pt x="7318" y="9612"/>
                  <a:pt x="6945" y="9575"/>
                </a:cubicBezTo>
              </a:path>
              <a:path w="4937" h="10220">
                <a:moveTo>
                  <a:pt x="8806" y="11683"/>
                </a:moveTo>
                <a:cubicBezTo>
                  <a:pt x="8852" y="11667"/>
                  <a:pt x="8936" y="11635"/>
                  <a:pt x="8979" y="11609"/>
                </a:cubicBezTo>
                <a:cubicBezTo>
                  <a:pt x="9027" y="11580"/>
                  <a:pt x="9050" y="11578"/>
                  <a:pt x="9103" y="11559"/>
                </a:cubicBezTo>
                <a:cubicBezTo>
                  <a:pt x="9156" y="11540"/>
                  <a:pt x="9209" y="11494"/>
                  <a:pt x="9252" y="11460"/>
                </a:cubicBezTo>
              </a:path>
              <a:path w="4937" h="10220">
                <a:moveTo>
                  <a:pt x="9723" y="11336"/>
                </a:moveTo>
                <a:cubicBezTo>
                  <a:pt x="9644" y="11336"/>
                  <a:pt x="9616" y="11343"/>
                  <a:pt x="9550" y="11385"/>
                </a:cubicBezTo>
                <a:cubicBezTo>
                  <a:pt x="9454" y="11446"/>
                  <a:pt x="9391" y="11504"/>
                  <a:pt x="9351" y="11609"/>
                </a:cubicBezTo>
                <a:cubicBezTo>
                  <a:pt x="9314" y="11705"/>
                  <a:pt x="9344" y="11765"/>
                  <a:pt x="9451" y="11782"/>
                </a:cubicBezTo>
                <a:cubicBezTo>
                  <a:pt x="9575" y="11802"/>
                  <a:pt x="9679" y="11744"/>
                  <a:pt x="9798" y="11733"/>
                </a:cubicBezTo>
                <a:cubicBezTo>
                  <a:pt x="9917" y="11722"/>
                  <a:pt x="10025" y="11720"/>
                  <a:pt x="10096" y="11832"/>
                </a:cubicBezTo>
                <a:cubicBezTo>
                  <a:pt x="10140" y="11901"/>
                  <a:pt x="10172" y="12033"/>
                  <a:pt x="10120" y="12105"/>
                </a:cubicBezTo>
                <a:cubicBezTo>
                  <a:pt x="10061" y="12186"/>
                  <a:pt x="9917" y="12217"/>
                  <a:pt x="9823" y="12204"/>
                </a:cubicBezTo>
                <a:cubicBezTo>
                  <a:pt x="9758" y="12195"/>
                  <a:pt x="9642" y="12129"/>
                  <a:pt x="9599" y="12080"/>
                </a:cubicBezTo>
                <a:cubicBezTo>
                  <a:pt x="9549" y="12023"/>
                  <a:pt x="9487" y="11936"/>
                  <a:pt x="9475" y="11857"/>
                </a:cubicBezTo>
                <a:cubicBezTo>
                  <a:pt x="9464" y="11783"/>
                  <a:pt x="9482" y="11701"/>
                  <a:pt x="9500" y="11633"/>
                </a:cubicBezTo>
                <a:cubicBezTo>
                  <a:pt x="9518" y="11566"/>
                  <a:pt x="9553" y="11518"/>
                  <a:pt x="9575" y="11460"/>
                </a:cubicBezTo>
                <a:cubicBezTo>
                  <a:pt x="9596" y="11406"/>
                  <a:pt x="9595" y="11390"/>
                  <a:pt x="9599" y="11336"/>
                </a:cubicBezTo>
                <a:cubicBezTo>
                  <a:pt x="9599" y="11328"/>
                  <a:pt x="9599" y="11319"/>
                  <a:pt x="9599" y="11311"/>
                </a:cubicBezTo>
              </a:path>
              <a:path w="4937" h="10220">
                <a:moveTo>
                  <a:pt x="8806" y="12502"/>
                </a:moveTo>
                <a:cubicBezTo>
                  <a:pt x="8867" y="12485"/>
                  <a:pt x="8913" y="12477"/>
                  <a:pt x="8979" y="12477"/>
                </a:cubicBezTo>
                <a:cubicBezTo>
                  <a:pt x="9058" y="12477"/>
                  <a:pt x="9138" y="12462"/>
                  <a:pt x="9203" y="12452"/>
                </a:cubicBezTo>
                <a:cubicBezTo>
                  <a:pt x="9281" y="12440"/>
                  <a:pt x="9374" y="12430"/>
                  <a:pt x="9451" y="12427"/>
                </a:cubicBezTo>
                <a:cubicBezTo>
                  <a:pt x="9571" y="12423"/>
                  <a:pt x="9680" y="12406"/>
                  <a:pt x="9798" y="12402"/>
                </a:cubicBezTo>
                <a:cubicBezTo>
                  <a:pt x="9913" y="12398"/>
                  <a:pt x="10034" y="12383"/>
                  <a:pt x="10145" y="12353"/>
                </a:cubicBezTo>
                <a:cubicBezTo>
                  <a:pt x="10233" y="12329"/>
                  <a:pt x="10339" y="12289"/>
                  <a:pt x="10418" y="12278"/>
                </a:cubicBezTo>
                <a:cubicBezTo>
                  <a:pt x="10485" y="12269"/>
                  <a:pt x="10549" y="12297"/>
                  <a:pt x="10616" y="12303"/>
                </a:cubicBezTo>
              </a:path>
              <a:path w="4937" h="10220">
                <a:moveTo>
                  <a:pt x="9351" y="12675"/>
                </a:moveTo>
                <a:cubicBezTo>
                  <a:pt x="9345" y="12701"/>
                  <a:pt x="9310" y="12742"/>
                  <a:pt x="9327" y="12774"/>
                </a:cubicBezTo>
                <a:cubicBezTo>
                  <a:pt x="9348" y="12813"/>
                  <a:pt x="9332" y="12864"/>
                  <a:pt x="9351" y="12898"/>
                </a:cubicBezTo>
                <a:cubicBezTo>
                  <a:pt x="9371" y="12933"/>
                  <a:pt x="9394" y="12986"/>
                  <a:pt x="9401" y="13022"/>
                </a:cubicBezTo>
                <a:cubicBezTo>
                  <a:pt x="9412" y="13078"/>
                  <a:pt x="9423" y="13140"/>
                  <a:pt x="9426" y="13196"/>
                </a:cubicBezTo>
                <a:cubicBezTo>
                  <a:pt x="9430" y="13275"/>
                  <a:pt x="9447" y="13318"/>
                  <a:pt x="9451" y="13395"/>
                </a:cubicBezTo>
                <a:cubicBezTo>
                  <a:pt x="9455" y="13465"/>
                  <a:pt x="9475" y="13520"/>
                  <a:pt x="9475" y="13593"/>
                </a:cubicBezTo>
                <a:cubicBezTo>
                  <a:pt x="9475" y="13650"/>
                  <a:pt x="9492" y="13562"/>
                  <a:pt x="9500" y="13543"/>
                </a:cubicBezTo>
              </a:path>
              <a:path w="4937" h="10220">
                <a:moveTo>
                  <a:pt x="10492" y="11038"/>
                </a:moveTo>
                <a:cubicBezTo>
                  <a:pt x="10507" y="11115"/>
                  <a:pt x="10517" y="11178"/>
                  <a:pt x="10517" y="11261"/>
                </a:cubicBezTo>
                <a:cubicBezTo>
                  <a:pt x="10517" y="11385"/>
                  <a:pt x="10517" y="11509"/>
                  <a:pt x="10517" y="11633"/>
                </a:cubicBezTo>
              </a:path>
              <a:path w="4937" h="10220">
                <a:moveTo>
                  <a:pt x="9922" y="11906"/>
                </a:moveTo>
                <a:cubicBezTo>
                  <a:pt x="9936" y="11947"/>
                  <a:pt x="10016" y="11963"/>
                  <a:pt x="10071" y="11981"/>
                </a:cubicBezTo>
                <a:cubicBezTo>
                  <a:pt x="10173" y="12014"/>
                  <a:pt x="10266" y="12076"/>
                  <a:pt x="10368" y="12105"/>
                </a:cubicBezTo>
                <a:cubicBezTo>
                  <a:pt x="10406" y="12116"/>
                  <a:pt x="10459" y="12147"/>
                  <a:pt x="10492" y="12154"/>
                </a:cubicBezTo>
                <a:cubicBezTo>
                  <a:pt x="10565" y="12170"/>
                  <a:pt x="10612" y="12204"/>
                  <a:pt x="10691" y="12204"/>
                </a:cubicBezTo>
                <a:cubicBezTo>
                  <a:pt x="10691" y="12092"/>
                  <a:pt x="10687" y="11990"/>
                  <a:pt x="10716" y="11881"/>
                </a:cubicBezTo>
                <a:cubicBezTo>
                  <a:pt x="10738" y="11796"/>
                  <a:pt x="10768" y="11741"/>
                  <a:pt x="10790" y="11658"/>
                </a:cubicBezTo>
                <a:cubicBezTo>
                  <a:pt x="10790" y="11630"/>
                  <a:pt x="10792" y="11619"/>
                  <a:pt x="10815" y="11609"/>
                </a:cubicBezTo>
              </a:path>
              <a:path w="4937" h="10220">
                <a:moveTo>
                  <a:pt x="10393" y="12526"/>
                </a:moveTo>
                <a:cubicBezTo>
                  <a:pt x="10356" y="12478"/>
                  <a:pt x="10345" y="12457"/>
                  <a:pt x="10269" y="12452"/>
                </a:cubicBezTo>
                <a:cubicBezTo>
                  <a:pt x="10186" y="12447"/>
                  <a:pt x="10150" y="12497"/>
                  <a:pt x="10096" y="12551"/>
                </a:cubicBezTo>
                <a:cubicBezTo>
                  <a:pt x="10013" y="12634"/>
                  <a:pt x="10021" y="12685"/>
                  <a:pt x="10021" y="12799"/>
                </a:cubicBezTo>
                <a:cubicBezTo>
                  <a:pt x="10021" y="12878"/>
                  <a:pt x="10036" y="13000"/>
                  <a:pt x="10071" y="13072"/>
                </a:cubicBezTo>
                <a:cubicBezTo>
                  <a:pt x="10113" y="13159"/>
                  <a:pt x="10254" y="13241"/>
                  <a:pt x="10344" y="13271"/>
                </a:cubicBezTo>
                <a:cubicBezTo>
                  <a:pt x="10418" y="13296"/>
                  <a:pt x="10595" y="13329"/>
                  <a:pt x="10666" y="13271"/>
                </a:cubicBezTo>
                <a:cubicBezTo>
                  <a:pt x="10777" y="13180"/>
                  <a:pt x="10785" y="13063"/>
                  <a:pt x="10716" y="12948"/>
                </a:cubicBezTo>
                <a:cubicBezTo>
                  <a:pt x="10682" y="12891"/>
                  <a:pt x="10606" y="12776"/>
                  <a:pt x="10517" y="12799"/>
                </a:cubicBezTo>
                <a:cubicBezTo>
                  <a:pt x="10440" y="12819"/>
                  <a:pt x="10379" y="12909"/>
                  <a:pt x="10344" y="12973"/>
                </a:cubicBezTo>
                <a:cubicBezTo>
                  <a:pt x="10303" y="13046"/>
                  <a:pt x="10324" y="13062"/>
                  <a:pt x="10344" y="13122"/>
                </a:cubicBezTo>
                <a:cubicBezTo>
                  <a:pt x="10344" y="13130"/>
                  <a:pt x="10344" y="13138"/>
                  <a:pt x="10344" y="13146"/>
                </a:cubicBezTo>
              </a:path>
              <a:path w="4937" h="10220">
                <a:moveTo>
                  <a:pt x="9823" y="9748"/>
                </a:moveTo>
                <a:cubicBezTo>
                  <a:pt x="9823" y="9698"/>
                  <a:pt x="9823" y="9649"/>
                  <a:pt x="9823" y="9599"/>
                </a:cubicBezTo>
              </a:path>
              <a:path w="4937" h="10220">
                <a:moveTo>
                  <a:pt x="8806" y="13915"/>
                </a:moveTo>
                <a:cubicBezTo>
                  <a:pt x="8888" y="13915"/>
                  <a:pt x="8957" y="13912"/>
                  <a:pt x="9029" y="13866"/>
                </a:cubicBezTo>
                <a:cubicBezTo>
                  <a:pt x="9070" y="13840"/>
                  <a:pt x="9119" y="13822"/>
                  <a:pt x="9153" y="13791"/>
                </a:cubicBezTo>
                <a:cubicBezTo>
                  <a:pt x="9195" y="13753"/>
                  <a:pt x="9234" y="13727"/>
                  <a:pt x="9277" y="13692"/>
                </a:cubicBezTo>
              </a:path>
              <a:path w="4937" h="10220">
                <a:moveTo>
                  <a:pt x="9376" y="13618"/>
                </a:moveTo>
                <a:cubicBezTo>
                  <a:pt x="9454" y="13706"/>
                  <a:pt x="9453" y="13801"/>
                  <a:pt x="9500" y="13891"/>
                </a:cubicBezTo>
                <a:cubicBezTo>
                  <a:pt x="9533" y="13954"/>
                  <a:pt x="9558" y="14022"/>
                  <a:pt x="9599" y="14089"/>
                </a:cubicBezTo>
                <a:cubicBezTo>
                  <a:pt x="9641" y="14158"/>
                  <a:pt x="9699" y="14233"/>
                  <a:pt x="9723" y="14312"/>
                </a:cubicBezTo>
                <a:cubicBezTo>
                  <a:pt x="9723" y="14320"/>
                  <a:pt x="9723" y="14329"/>
                  <a:pt x="9723" y="14337"/>
                </a:cubicBezTo>
              </a:path>
              <a:path w="4937" h="10220">
                <a:moveTo>
                  <a:pt x="10319" y="13196"/>
                </a:moveTo>
                <a:cubicBezTo>
                  <a:pt x="10216" y="13271"/>
                  <a:pt x="10155" y="13312"/>
                  <a:pt x="10145" y="13444"/>
                </a:cubicBezTo>
                <a:cubicBezTo>
                  <a:pt x="10131" y="13630"/>
                  <a:pt x="10227" y="13826"/>
                  <a:pt x="10344" y="13965"/>
                </a:cubicBezTo>
                <a:cubicBezTo>
                  <a:pt x="10425" y="14061"/>
                  <a:pt x="10532" y="14142"/>
                  <a:pt x="10666" y="14139"/>
                </a:cubicBezTo>
                <a:cubicBezTo>
                  <a:pt x="10798" y="14136"/>
                  <a:pt x="11009" y="14063"/>
                  <a:pt x="10988" y="13891"/>
                </a:cubicBezTo>
                <a:cubicBezTo>
                  <a:pt x="10968" y="13729"/>
                  <a:pt x="10818" y="13595"/>
                  <a:pt x="10666" y="13643"/>
                </a:cubicBezTo>
                <a:cubicBezTo>
                  <a:pt x="10569" y="13673"/>
                  <a:pt x="10433" y="13796"/>
                  <a:pt x="10393" y="13891"/>
                </a:cubicBezTo>
                <a:cubicBezTo>
                  <a:pt x="10393" y="13907"/>
                  <a:pt x="10393" y="13924"/>
                  <a:pt x="10393" y="13940"/>
                </a:cubicBezTo>
              </a:path>
              <a:path w="4937" h="10220">
                <a:moveTo>
                  <a:pt x="9178" y="14610"/>
                </a:moveTo>
                <a:cubicBezTo>
                  <a:pt x="9343" y="14558"/>
                  <a:pt x="9509" y="14511"/>
                  <a:pt x="9674" y="14461"/>
                </a:cubicBezTo>
                <a:cubicBezTo>
                  <a:pt x="9877" y="14399"/>
                  <a:pt x="10093" y="14362"/>
                  <a:pt x="10294" y="14288"/>
                </a:cubicBezTo>
                <a:cubicBezTo>
                  <a:pt x="10470" y="14224"/>
                  <a:pt x="10627" y="14115"/>
                  <a:pt x="10815" y="14089"/>
                </a:cubicBezTo>
                <a:cubicBezTo>
                  <a:pt x="10895" y="14078"/>
                  <a:pt x="10988" y="14072"/>
                  <a:pt x="11063" y="14064"/>
                </a:cubicBezTo>
                <a:cubicBezTo>
                  <a:pt x="11148" y="14055"/>
                  <a:pt x="11227" y="14042"/>
                  <a:pt x="11311" y="14039"/>
                </a:cubicBezTo>
                <a:cubicBezTo>
                  <a:pt x="11411" y="14035"/>
                  <a:pt x="11380" y="14029"/>
                  <a:pt x="11286" y="14064"/>
                </a:cubicBezTo>
              </a:path>
              <a:path w="4937" h="10220">
                <a:moveTo>
                  <a:pt x="10542" y="14461"/>
                </a:moveTo>
                <a:cubicBezTo>
                  <a:pt x="10488" y="14515"/>
                  <a:pt x="10468" y="14537"/>
                  <a:pt x="10443" y="14585"/>
                </a:cubicBezTo>
                <a:cubicBezTo>
                  <a:pt x="10457" y="14628"/>
                  <a:pt x="10531" y="14672"/>
                  <a:pt x="10592" y="14684"/>
                </a:cubicBezTo>
                <a:cubicBezTo>
                  <a:pt x="10691" y="14703"/>
                  <a:pt x="10834" y="14635"/>
                  <a:pt x="10914" y="14585"/>
                </a:cubicBezTo>
                <a:cubicBezTo>
                  <a:pt x="11018" y="14520"/>
                  <a:pt x="11139" y="14428"/>
                  <a:pt x="11112" y="14288"/>
                </a:cubicBezTo>
                <a:cubicBezTo>
                  <a:pt x="11097" y="14209"/>
                  <a:pt x="10883" y="14183"/>
                  <a:pt x="10815" y="14188"/>
                </a:cubicBezTo>
                <a:cubicBezTo>
                  <a:pt x="10731" y="14194"/>
                  <a:pt x="10636" y="14178"/>
                  <a:pt x="10567" y="14238"/>
                </a:cubicBezTo>
                <a:cubicBezTo>
                  <a:pt x="10499" y="14297"/>
                  <a:pt x="10478" y="14377"/>
                  <a:pt x="10468" y="14461"/>
                </a:cubicBezTo>
              </a:path>
              <a:path w="4937" h="10220">
                <a:moveTo>
                  <a:pt x="10492" y="14486"/>
                </a:moveTo>
                <a:cubicBezTo>
                  <a:pt x="10507" y="14547"/>
                  <a:pt x="10543" y="14548"/>
                  <a:pt x="10592" y="14585"/>
                </a:cubicBezTo>
                <a:cubicBezTo>
                  <a:pt x="10627" y="14611"/>
                  <a:pt x="10718" y="14631"/>
                  <a:pt x="10765" y="14610"/>
                </a:cubicBezTo>
                <a:cubicBezTo>
                  <a:pt x="10790" y="14593"/>
                  <a:pt x="10815" y="14577"/>
                  <a:pt x="10840" y="14560"/>
                </a:cubicBezTo>
              </a:path>
              <a:path w="4937" h="10220">
                <a:moveTo>
                  <a:pt x="10790" y="14337"/>
                </a:moveTo>
                <a:cubicBezTo>
                  <a:pt x="10718" y="14282"/>
                  <a:pt x="10682" y="14263"/>
                  <a:pt x="10592" y="14263"/>
                </a:cubicBezTo>
              </a:path>
              <a:path w="4937" h="10220">
                <a:moveTo>
                  <a:pt x="8756" y="9227"/>
                </a:moveTo>
                <a:cubicBezTo>
                  <a:pt x="8828" y="9239"/>
                  <a:pt x="8917" y="9257"/>
                  <a:pt x="8954" y="9203"/>
                </a:cubicBezTo>
              </a:path>
              <a:path w="4937" h="10220">
                <a:moveTo>
                  <a:pt x="9178" y="9054"/>
                </a:moveTo>
                <a:cubicBezTo>
                  <a:pt x="9214" y="9200"/>
                  <a:pt x="9260" y="9347"/>
                  <a:pt x="9277" y="9500"/>
                </a:cubicBezTo>
                <a:cubicBezTo>
                  <a:pt x="9281" y="9541"/>
                  <a:pt x="9277" y="9616"/>
                  <a:pt x="9277" y="9575"/>
                </a:cubicBezTo>
              </a:path>
              <a:path w="4937" h="10220">
                <a:moveTo>
                  <a:pt x="9748" y="9079"/>
                </a:moveTo>
                <a:cubicBezTo>
                  <a:pt x="9798" y="9039"/>
                  <a:pt x="9835" y="9027"/>
                  <a:pt x="9897" y="9004"/>
                </a:cubicBezTo>
                <a:cubicBezTo>
                  <a:pt x="9946" y="9198"/>
                  <a:pt x="9873" y="9223"/>
                  <a:pt x="9748" y="9376"/>
                </a:cubicBezTo>
                <a:cubicBezTo>
                  <a:pt x="9708" y="9425"/>
                  <a:pt x="9663" y="9470"/>
                  <a:pt x="9649" y="9525"/>
                </a:cubicBezTo>
                <a:cubicBezTo>
                  <a:pt x="9704" y="9539"/>
                  <a:pt x="9732" y="9550"/>
                  <a:pt x="9798" y="9500"/>
                </a:cubicBezTo>
                <a:cubicBezTo>
                  <a:pt x="9909" y="9416"/>
                  <a:pt x="9956" y="9401"/>
                  <a:pt x="10096" y="9401"/>
                </a:cubicBezTo>
                <a:cubicBezTo>
                  <a:pt x="10183" y="9401"/>
                  <a:pt x="10258" y="9388"/>
                  <a:pt x="10344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5742000"/>
            <a:ext cx="260280" cy="17280"/>
          </a:xfrm>
          <a:custGeom>
            <a:avLst/>
            <a:gdLst/>
            <a:ahLst/>
            <a:rect l="l" t="t" r="r" b="b"/>
            <a:pathLst>
              <a:path w="721" h="51">
                <a:moveTo>
                  <a:pt x="15850" y="15999"/>
                </a:moveTo>
                <a:lnTo>
                  <a:pt x="15850" y="15999"/>
                </a:lnTo>
              </a:path>
              <a:path w="721" h="51">
                <a:moveTo>
                  <a:pt x="15850" y="15999"/>
                </a:moveTo>
                <a:lnTo>
                  <a:pt x="15850" y="15999"/>
                </a:lnTo>
              </a:path>
              <a:path w="721" h="51">
                <a:moveTo>
                  <a:pt x="16570" y="15949"/>
                </a:moveTo>
                <a:lnTo>
                  <a:pt x="16570" y="15949"/>
                </a:lnTo>
              </a:path>
              <a:path w="721" h="51">
                <a:moveTo>
                  <a:pt x="16570" y="15949"/>
                </a:moveTo>
                <a:lnTo>
                  <a:pt x="16570" y="159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9040" y="5411880"/>
            <a:ext cx="71280" cy="411120"/>
          </a:xfrm>
          <a:custGeom>
            <a:avLst/>
            <a:gdLst/>
            <a:ahLst/>
            <a:rect l="l" t="t" r="r" b="b"/>
            <a:pathLst>
              <a:path w="200" h="1142">
                <a:moveTo>
                  <a:pt x="14163" y="15032"/>
                </a:moveTo>
                <a:cubicBezTo>
                  <a:pt x="14180" y="15165"/>
                  <a:pt x="14212" y="15297"/>
                  <a:pt x="14238" y="15429"/>
                </a:cubicBezTo>
                <a:cubicBezTo>
                  <a:pt x="14265" y="15561"/>
                  <a:pt x="14265" y="15694"/>
                  <a:pt x="14288" y="15825"/>
                </a:cubicBezTo>
                <a:cubicBezTo>
                  <a:pt x="14302" y="15906"/>
                  <a:pt x="14312" y="16022"/>
                  <a:pt x="14337" y="16098"/>
                </a:cubicBezTo>
                <a:cubicBezTo>
                  <a:pt x="14341" y="16111"/>
                  <a:pt x="14362" y="16209"/>
                  <a:pt x="14362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9800" y="5268960"/>
            <a:ext cx="474480" cy="776160"/>
          </a:xfrm>
          <a:custGeom>
            <a:avLst/>
            <a:gdLst/>
            <a:ahLst/>
            <a:rect l="l" t="t" r="r" b="b"/>
            <a:pathLst>
              <a:path w="1316" h="2159">
                <a:moveTo>
                  <a:pt x="15056" y="15007"/>
                </a:moveTo>
                <a:cubicBezTo>
                  <a:pt x="15065" y="15108"/>
                  <a:pt x="15081" y="15200"/>
                  <a:pt x="15081" y="15304"/>
                </a:cubicBezTo>
                <a:cubicBezTo>
                  <a:pt x="15081" y="15433"/>
                  <a:pt x="15085" y="15555"/>
                  <a:pt x="15106" y="15677"/>
                </a:cubicBezTo>
                <a:cubicBezTo>
                  <a:pt x="15121" y="15763"/>
                  <a:pt x="15121" y="15863"/>
                  <a:pt x="15131" y="15949"/>
                </a:cubicBezTo>
                <a:cubicBezTo>
                  <a:pt x="15140" y="16021"/>
                  <a:pt x="15126" y="16107"/>
                  <a:pt x="15156" y="16173"/>
                </a:cubicBezTo>
                <a:cubicBezTo>
                  <a:pt x="15177" y="16219"/>
                  <a:pt x="15180" y="16239"/>
                  <a:pt x="15180" y="16297"/>
                </a:cubicBezTo>
                <a:cubicBezTo>
                  <a:pt x="15180" y="16148"/>
                  <a:pt x="15174" y="16049"/>
                  <a:pt x="15156" y="15925"/>
                </a:cubicBezTo>
              </a:path>
              <a:path w="1316" h="2159">
                <a:moveTo>
                  <a:pt x="15726" y="14684"/>
                </a:moveTo>
                <a:cubicBezTo>
                  <a:pt x="15781" y="14673"/>
                  <a:pt x="15815" y="14644"/>
                  <a:pt x="15875" y="14635"/>
                </a:cubicBezTo>
                <a:cubicBezTo>
                  <a:pt x="15982" y="14619"/>
                  <a:pt x="16095" y="14697"/>
                  <a:pt x="16173" y="14759"/>
                </a:cubicBezTo>
                <a:cubicBezTo>
                  <a:pt x="16256" y="14825"/>
                  <a:pt x="16314" y="14906"/>
                  <a:pt x="16346" y="15007"/>
                </a:cubicBezTo>
                <a:cubicBezTo>
                  <a:pt x="16379" y="15112"/>
                  <a:pt x="16385" y="15245"/>
                  <a:pt x="16371" y="15354"/>
                </a:cubicBezTo>
                <a:cubicBezTo>
                  <a:pt x="16354" y="15481"/>
                  <a:pt x="16332" y="15581"/>
                  <a:pt x="16297" y="15701"/>
                </a:cubicBezTo>
                <a:cubicBezTo>
                  <a:pt x="16268" y="15800"/>
                  <a:pt x="16261" y="15908"/>
                  <a:pt x="16222" y="15999"/>
                </a:cubicBezTo>
                <a:cubicBezTo>
                  <a:pt x="16188" y="16080"/>
                  <a:pt x="16136" y="16147"/>
                  <a:pt x="16098" y="16222"/>
                </a:cubicBezTo>
                <a:cubicBezTo>
                  <a:pt x="16060" y="16298"/>
                  <a:pt x="16023" y="16406"/>
                  <a:pt x="15974" y="16470"/>
                </a:cubicBezTo>
                <a:cubicBezTo>
                  <a:pt x="15943" y="16510"/>
                  <a:pt x="15892" y="16594"/>
                  <a:pt x="15850" y="16619"/>
                </a:cubicBezTo>
                <a:cubicBezTo>
                  <a:pt x="15787" y="16657"/>
                  <a:pt x="15749" y="16682"/>
                  <a:pt x="15677" y="16718"/>
                </a:cubicBezTo>
                <a:cubicBezTo>
                  <a:pt x="15620" y="16746"/>
                  <a:pt x="15560" y="16746"/>
                  <a:pt x="15503" y="16768"/>
                </a:cubicBezTo>
                <a:cubicBezTo>
                  <a:pt x="15465" y="16783"/>
                  <a:pt x="15450" y="16787"/>
                  <a:pt x="15404" y="16793"/>
                </a:cubicBezTo>
                <a:cubicBezTo>
                  <a:pt x="15380" y="16734"/>
                  <a:pt x="15424" y="16617"/>
                  <a:pt x="15453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69040" y="5357880"/>
            <a:ext cx="54000" cy="500040"/>
          </a:xfrm>
          <a:custGeom>
            <a:avLst/>
            <a:gdLst/>
            <a:ahLst/>
            <a:rect l="l" t="t" r="r" b="b"/>
            <a:pathLst>
              <a:path w="150" h="1390">
                <a:moveTo>
                  <a:pt x="17462" y="14883"/>
                </a:moveTo>
                <a:cubicBezTo>
                  <a:pt x="17478" y="14981"/>
                  <a:pt x="17496" y="15082"/>
                  <a:pt x="17512" y="15180"/>
                </a:cubicBezTo>
                <a:cubicBezTo>
                  <a:pt x="17531" y="15296"/>
                  <a:pt x="17518" y="15414"/>
                  <a:pt x="17537" y="15528"/>
                </a:cubicBezTo>
                <a:cubicBezTo>
                  <a:pt x="17552" y="15617"/>
                  <a:pt x="17562" y="15683"/>
                  <a:pt x="17562" y="15776"/>
                </a:cubicBezTo>
                <a:cubicBezTo>
                  <a:pt x="17562" y="15915"/>
                  <a:pt x="17556" y="16039"/>
                  <a:pt x="17537" y="16173"/>
                </a:cubicBezTo>
                <a:cubicBezTo>
                  <a:pt x="17530" y="16223"/>
                  <a:pt x="17552" y="16231"/>
                  <a:pt x="17562" y="16272"/>
                </a:cubicBezTo>
                <a:cubicBezTo>
                  <a:pt x="17562" y="16113"/>
                  <a:pt x="17519" y="15996"/>
                  <a:pt x="1741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7880" y="5500800"/>
            <a:ext cx="366480" cy="4014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18157" y="15354"/>
                </a:moveTo>
                <a:cubicBezTo>
                  <a:pt x="18149" y="15346"/>
                  <a:pt x="18140" y="15337"/>
                  <a:pt x="18132" y="15329"/>
                </a:cubicBezTo>
                <a:cubicBezTo>
                  <a:pt x="18179" y="15283"/>
                  <a:pt x="18191" y="15280"/>
                  <a:pt x="18281" y="15280"/>
                </a:cubicBezTo>
                <a:cubicBezTo>
                  <a:pt x="18357" y="15280"/>
                  <a:pt x="18424" y="15301"/>
                  <a:pt x="18479" y="15354"/>
                </a:cubicBezTo>
                <a:cubicBezTo>
                  <a:pt x="18565" y="15437"/>
                  <a:pt x="18657" y="15467"/>
                  <a:pt x="18703" y="15577"/>
                </a:cubicBezTo>
                <a:cubicBezTo>
                  <a:pt x="18755" y="15700"/>
                  <a:pt x="18774" y="15817"/>
                  <a:pt x="18777" y="15949"/>
                </a:cubicBezTo>
                <a:cubicBezTo>
                  <a:pt x="18780" y="16078"/>
                  <a:pt x="18789" y="16255"/>
                  <a:pt x="18678" y="16346"/>
                </a:cubicBezTo>
                <a:cubicBezTo>
                  <a:pt x="18559" y="16443"/>
                  <a:pt x="18479" y="16366"/>
                  <a:pt x="18430" y="16247"/>
                </a:cubicBezTo>
                <a:cubicBezTo>
                  <a:pt x="18390" y="16149"/>
                  <a:pt x="18372" y="16002"/>
                  <a:pt x="18479" y="15949"/>
                </a:cubicBezTo>
                <a:cubicBezTo>
                  <a:pt x="18599" y="15890"/>
                  <a:pt x="18770" y="15927"/>
                  <a:pt x="18876" y="15999"/>
                </a:cubicBezTo>
                <a:cubicBezTo>
                  <a:pt x="18958" y="16055"/>
                  <a:pt x="19042" y="16177"/>
                  <a:pt x="19050" y="16272"/>
                </a:cubicBezTo>
                <a:cubicBezTo>
                  <a:pt x="19068" y="16483"/>
                  <a:pt x="19147" y="16105"/>
                  <a:pt x="19149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4120" y="5375160"/>
            <a:ext cx="19080" cy="358920"/>
          </a:xfrm>
          <a:custGeom>
            <a:avLst/>
            <a:gdLst/>
            <a:ahLst/>
            <a:rect l="l" t="t" r="r" b="b"/>
            <a:pathLst>
              <a:path w="51" h="994">
                <a:moveTo>
                  <a:pt x="19819" y="14957"/>
                </a:moveTo>
                <a:cubicBezTo>
                  <a:pt x="19890" y="14957"/>
                  <a:pt x="19868" y="15422"/>
                  <a:pt x="19869" y="15528"/>
                </a:cubicBezTo>
                <a:cubicBezTo>
                  <a:pt x="19871" y="15669"/>
                  <a:pt x="19888" y="16058"/>
                  <a:pt x="19844" y="15925"/>
                </a:cubicBezTo>
                <a:cubicBezTo>
                  <a:pt x="19844" y="15908"/>
                  <a:pt x="19844" y="15892"/>
                  <a:pt x="19844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768920"/>
            <a:ext cx="857160" cy="1392120"/>
          </a:xfrm>
          <a:custGeom>
            <a:avLst/>
            <a:gdLst/>
            <a:ahLst/>
            <a:rect l="l" t="t" r="r" b="b"/>
            <a:pathLst>
              <a:path w="2382" h="3870">
                <a:moveTo>
                  <a:pt x="19149" y="17115"/>
                </a:moveTo>
                <a:lnTo>
                  <a:pt x="19149" y="17115"/>
                </a:lnTo>
              </a:path>
              <a:path w="2382" h="3870">
                <a:moveTo>
                  <a:pt x="19149" y="17115"/>
                </a:moveTo>
                <a:lnTo>
                  <a:pt x="19149" y="17115"/>
                </a:lnTo>
              </a:path>
              <a:path w="2382" h="3870">
                <a:moveTo>
                  <a:pt x="18033" y="13271"/>
                </a:moveTo>
                <a:cubicBezTo>
                  <a:pt x="18033" y="13263"/>
                  <a:pt x="18033" y="13254"/>
                  <a:pt x="18033" y="13246"/>
                </a:cubicBezTo>
              </a:path>
              <a:path w="2382" h="3870">
                <a:moveTo>
                  <a:pt x="18033" y="13246"/>
                </a:moveTo>
                <a:lnTo>
                  <a:pt x="18033" y="13246"/>
                </a:lnTo>
              </a:path>
              <a:path w="2382" h="3870">
                <a:moveTo>
                  <a:pt x="18033" y="13246"/>
                </a:moveTo>
                <a:lnTo>
                  <a:pt x="18033" y="13246"/>
                </a:lnTo>
              </a:path>
              <a:path w="2382" h="3870">
                <a:moveTo>
                  <a:pt x="16768" y="13295"/>
                </a:moveTo>
                <a:lnTo>
                  <a:pt x="16768" y="13295"/>
                </a:lnTo>
              </a:path>
              <a:path w="2382" h="3870">
                <a:moveTo>
                  <a:pt x="16768" y="13295"/>
                </a:moveTo>
                <a:lnTo>
                  <a:pt x="16768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32200" y="5626080"/>
            <a:ext cx="135000" cy="972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3146" y="15652"/>
                </a:moveTo>
                <a:cubicBezTo>
                  <a:pt x="13206" y="15616"/>
                  <a:pt x="13270" y="15627"/>
                  <a:pt x="13345" y="15627"/>
                </a:cubicBezTo>
                <a:cubicBezTo>
                  <a:pt x="13403" y="15627"/>
                  <a:pt x="13461" y="15627"/>
                  <a:pt x="13519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2640" y="5099040"/>
            <a:ext cx="1733400" cy="152280"/>
          </a:xfrm>
          <a:custGeom>
            <a:avLst/>
            <a:gdLst/>
            <a:ahLst/>
            <a:rect l="l" t="t" r="r" b="b"/>
            <a:pathLst>
              <a:path w="4813" h="423">
                <a:moveTo>
                  <a:pt x="15925" y="14585"/>
                </a:moveTo>
                <a:cubicBezTo>
                  <a:pt x="15961" y="14580"/>
                  <a:pt x="16100" y="14560"/>
                  <a:pt x="16173" y="14560"/>
                </a:cubicBezTo>
                <a:cubicBezTo>
                  <a:pt x="16350" y="14560"/>
                  <a:pt x="16519" y="14549"/>
                  <a:pt x="16694" y="14536"/>
                </a:cubicBezTo>
                <a:cubicBezTo>
                  <a:pt x="16876" y="14523"/>
                  <a:pt x="17059" y="14526"/>
                  <a:pt x="17239" y="14511"/>
                </a:cubicBezTo>
                <a:cubicBezTo>
                  <a:pt x="17371" y="14500"/>
                  <a:pt x="17507" y="14470"/>
                  <a:pt x="17636" y="14461"/>
                </a:cubicBezTo>
                <a:cubicBezTo>
                  <a:pt x="17727" y="14455"/>
                  <a:pt x="17822" y="14442"/>
                  <a:pt x="17909" y="14436"/>
                </a:cubicBezTo>
                <a:cubicBezTo>
                  <a:pt x="18222" y="14415"/>
                  <a:pt x="18544" y="14441"/>
                  <a:pt x="18852" y="14461"/>
                </a:cubicBezTo>
                <a:cubicBezTo>
                  <a:pt x="19033" y="14473"/>
                  <a:pt x="19221" y="14475"/>
                  <a:pt x="19397" y="14486"/>
                </a:cubicBezTo>
                <a:cubicBezTo>
                  <a:pt x="19524" y="14494"/>
                  <a:pt x="19641" y="14508"/>
                  <a:pt x="19769" y="14511"/>
                </a:cubicBezTo>
                <a:cubicBezTo>
                  <a:pt x="19889" y="14514"/>
                  <a:pt x="19999" y="14530"/>
                  <a:pt x="20117" y="14536"/>
                </a:cubicBezTo>
                <a:cubicBezTo>
                  <a:pt x="20250" y="14542"/>
                  <a:pt x="20384" y="14552"/>
                  <a:pt x="20513" y="14560"/>
                </a:cubicBezTo>
                <a:cubicBezTo>
                  <a:pt x="20587" y="14565"/>
                  <a:pt x="20663" y="14560"/>
                  <a:pt x="20737" y="14560"/>
                </a:cubicBezTo>
                <a:cubicBezTo>
                  <a:pt x="20679" y="14443"/>
                  <a:pt x="20600" y="14282"/>
                  <a:pt x="2053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11960" y="6054840"/>
            <a:ext cx="98280" cy="330120"/>
          </a:xfrm>
          <a:custGeom>
            <a:avLst/>
            <a:gdLst/>
            <a:ahLst/>
            <a:rect l="l" t="t" r="r" b="b"/>
            <a:pathLst>
              <a:path w="274" h="918">
                <a:moveTo>
                  <a:pt x="17810" y="16818"/>
                </a:moveTo>
                <a:cubicBezTo>
                  <a:pt x="17890" y="16913"/>
                  <a:pt x="17900" y="16998"/>
                  <a:pt x="17934" y="17115"/>
                </a:cubicBezTo>
                <a:cubicBezTo>
                  <a:pt x="17968" y="17231"/>
                  <a:pt x="18003" y="17345"/>
                  <a:pt x="18033" y="17462"/>
                </a:cubicBezTo>
                <a:cubicBezTo>
                  <a:pt x="18039" y="17485"/>
                  <a:pt x="18063" y="17733"/>
                  <a:pt x="18083" y="17735"/>
                </a:cubicBezTo>
                <a:cubicBezTo>
                  <a:pt x="18083" y="17727"/>
                  <a:pt x="18083" y="17719"/>
                  <a:pt x="18083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3080" y="6037200"/>
            <a:ext cx="17280" cy="320760"/>
          </a:xfrm>
          <a:custGeom>
            <a:avLst/>
            <a:gdLst/>
            <a:ahLst/>
            <a:rect l="l" t="t" r="r" b="b"/>
            <a:pathLst>
              <a:path w="50" h="894">
                <a:moveTo>
                  <a:pt x="18951" y="16768"/>
                </a:moveTo>
                <a:cubicBezTo>
                  <a:pt x="19004" y="16856"/>
                  <a:pt x="18997" y="16983"/>
                  <a:pt x="19000" y="17090"/>
                </a:cubicBezTo>
                <a:cubicBezTo>
                  <a:pt x="19003" y="17194"/>
                  <a:pt x="18979" y="17287"/>
                  <a:pt x="18976" y="17388"/>
                </a:cubicBezTo>
                <a:cubicBezTo>
                  <a:pt x="18974" y="17461"/>
                  <a:pt x="18998" y="17652"/>
                  <a:pt x="18951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7960" y="6438960"/>
            <a:ext cx="660240" cy="98280"/>
          </a:xfrm>
          <a:custGeom>
            <a:avLst/>
            <a:gdLst/>
            <a:ahLst/>
            <a:rect l="l" t="t" r="r" b="b"/>
            <a:pathLst>
              <a:path w="1836" h="274">
                <a:moveTo>
                  <a:pt x="17661" y="18107"/>
                </a:moveTo>
                <a:cubicBezTo>
                  <a:pt x="17685" y="18131"/>
                  <a:pt x="17678" y="18150"/>
                  <a:pt x="17711" y="18157"/>
                </a:cubicBezTo>
                <a:cubicBezTo>
                  <a:pt x="17809" y="18178"/>
                  <a:pt x="17933" y="18134"/>
                  <a:pt x="18033" y="18132"/>
                </a:cubicBezTo>
                <a:cubicBezTo>
                  <a:pt x="18211" y="18128"/>
                  <a:pt x="18432" y="18125"/>
                  <a:pt x="18604" y="18083"/>
                </a:cubicBezTo>
                <a:cubicBezTo>
                  <a:pt x="18753" y="18047"/>
                  <a:pt x="18901" y="18019"/>
                  <a:pt x="19050" y="17983"/>
                </a:cubicBezTo>
                <a:cubicBezTo>
                  <a:pt x="19160" y="17957"/>
                  <a:pt x="19262" y="17940"/>
                  <a:pt x="19372" y="17909"/>
                </a:cubicBezTo>
                <a:cubicBezTo>
                  <a:pt x="19604" y="17843"/>
                  <a:pt x="19405" y="17893"/>
                  <a:pt x="19298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99160" y="6670800"/>
            <a:ext cx="17640" cy="115920"/>
          </a:xfrm>
          <a:custGeom>
            <a:avLst/>
            <a:gdLst/>
            <a:ahLst/>
            <a:rect l="l" t="t" r="r" b="b"/>
            <a:pathLst>
              <a:path w="50" h="324">
                <a:moveTo>
                  <a:pt x="18331" y="18529"/>
                </a:moveTo>
                <a:cubicBezTo>
                  <a:pt x="18350" y="18608"/>
                  <a:pt x="18355" y="18685"/>
                  <a:pt x="18355" y="18777"/>
                </a:cubicBezTo>
                <a:cubicBezTo>
                  <a:pt x="18355" y="18959"/>
                  <a:pt x="18374" y="18737"/>
                  <a:pt x="18380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8640" y="5946840"/>
            <a:ext cx="358560" cy="617400"/>
          </a:xfrm>
          <a:custGeom>
            <a:avLst/>
            <a:gdLst/>
            <a:ahLst/>
            <a:rect l="l" t="t" r="r" b="b"/>
            <a:pathLst>
              <a:path w="993" h="1712">
                <a:moveTo>
                  <a:pt x="20017" y="16520"/>
                </a:moveTo>
                <a:cubicBezTo>
                  <a:pt x="20017" y="16608"/>
                  <a:pt x="19997" y="16659"/>
                  <a:pt x="19968" y="16743"/>
                </a:cubicBezTo>
                <a:cubicBezTo>
                  <a:pt x="19937" y="16832"/>
                  <a:pt x="19917" y="16934"/>
                  <a:pt x="19869" y="17016"/>
                </a:cubicBezTo>
                <a:cubicBezTo>
                  <a:pt x="19814" y="17111"/>
                  <a:pt x="19755" y="17200"/>
                  <a:pt x="19695" y="17289"/>
                </a:cubicBezTo>
                <a:cubicBezTo>
                  <a:pt x="19640" y="17371"/>
                  <a:pt x="19608" y="17456"/>
                  <a:pt x="19546" y="17537"/>
                </a:cubicBezTo>
                <a:cubicBezTo>
                  <a:pt x="19482" y="17622"/>
                  <a:pt x="19433" y="17721"/>
                  <a:pt x="19372" y="17810"/>
                </a:cubicBezTo>
                <a:cubicBezTo>
                  <a:pt x="19345" y="17849"/>
                  <a:pt x="19345" y="17910"/>
                  <a:pt x="19323" y="17959"/>
                </a:cubicBezTo>
                <a:cubicBezTo>
                  <a:pt x="19303" y="18003"/>
                  <a:pt x="19261" y="18066"/>
                  <a:pt x="19248" y="18107"/>
                </a:cubicBezTo>
                <a:cubicBezTo>
                  <a:pt x="19240" y="18133"/>
                  <a:pt x="19229" y="18186"/>
                  <a:pt x="19224" y="18207"/>
                </a:cubicBezTo>
                <a:cubicBezTo>
                  <a:pt x="19224" y="18215"/>
                  <a:pt x="19224" y="18223"/>
                  <a:pt x="19224" y="18231"/>
                </a:cubicBezTo>
                <a:cubicBezTo>
                  <a:pt x="19118" y="18136"/>
                  <a:pt x="19107" y="18055"/>
                  <a:pt x="19050" y="17934"/>
                </a:cubicBezTo>
                <a:cubicBezTo>
                  <a:pt x="19036" y="17904"/>
                  <a:pt x="18998" y="17878"/>
                  <a:pt x="19050" y="17835"/>
                </a:cubicBezTo>
                <a:cubicBezTo>
                  <a:pt x="19075" y="17835"/>
                  <a:pt x="19083" y="17835"/>
                  <a:pt x="1910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6429240"/>
            <a:ext cx="304920" cy="162000"/>
          </a:xfrm>
          <a:custGeom>
            <a:avLst/>
            <a:gdLst/>
            <a:ahLst/>
            <a:rect l="l" t="t" r="r" b="b"/>
            <a:pathLst>
              <a:path w="845" h="448">
                <a:moveTo>
                  <a:pt x="19149" y="18306"/>
                </a:moveTo>
                <a:cubicBezTo>
                  <a:pt x="19213" y="18306"/>
                  <a:pt x="19262" y="18277"/>
                  <a:pt x="19323" y="18256"/>
                </a:cubicBezTo>
                <a:cubicBezTo>
                  <a:pt x="19450" y="18211"/>
                  <a:pt x="19531" y="18201"/>
                  <a:pt x="19645" y="18132"/>
                </a:cubicBezTo>
                <a:cubicBezTo>
                  <a:pt x="19756" y="18066"/>
                  <a:pt x="19872" y="17996"/>
                  <a:pt x="19968" y="17909"/>
                </a:cubicBezTo>
                <a:cubicBezTo>
                  <a:pt x="19993" y="17884"/>
                  <a:pt x="20001" y="17876"/>
                  <a:pt x="1996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6080" y="660708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18876" y="18355"/>
                </a:moveTo>
                <a:cubicBezTo>
                  <a:pt x="18876" y="18418"/>
                  <a:pt x="18898" y="18445"/>
                  <a:pt x="18901" y="18504"/>
                </a:cubicBezTo>
                <a:cubicBezTo>
                  <a:pt x="18905" y="18568"/>
                  <a:pt x="18909" y="18577"/>
                  <a:pt x="18926" y="18628"/>
                </a:cubicBezTo>
                <a:cubicBezTo>
                  <a:pt x="18947" y="18690"/>
                  <a:pt x="18931" y="18768"/>
                  <a:pt x="18951" y="18827"/>
                </a:cubicBezTo>
                <a:cubicBezTo>
                  <a:pt x="18953" y="18833"/>
                  <a:pt x="18951" y="18918"/>
                  <a:pt x="18951" y="188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43760" y="6510240"/>
            <a:ext cx="223560" cy="204840"/>
          </a:xfrm>
          <a:custGeom>
            <a:avLst/>
            <a:gdLst/>
            <a:ahLst/>
            <a:rect l="l" t="t" r="r" b="b"/>
            <a:pathLst>
              <a:path w="621" h="571">
                <a:moveTo>
                  <a:pt x="17165" y="18207"/>
                </a:moveTo>
                <a:cubicBezTo>
                  <a:pt x="17135" y="18217"/>
                  <a:pt x="17113" y="18267"/>
                  <a:pt x="17090" y="18306"/>
                </a:cubicBezTo>
                <a:cubicBezTo>
                  <a:pt x="17052" y="18370"/>
                  <a:pt x="17061" y="18417"/>
                  <a:pt x="17090" y="18479"/>
                </a:cubicBezTo>
                <a:cubicBezTo>
                  <a:pt x="17123" y="18550"/>
                  <a:pt x="17136" y="18584"/>
                  <a:pt x="17214" y="18604"/>
                </a:cubicBezTo>
                <a:cubicBezTo>
                  <a:pt x="17275" y="18619"/>
                  <a:pt x="17287" y="18609"/>
                  <a:pt x="17338" y="18628"/>
                </a:cubicBezTo>
                <a:cubicBezTo>
                  <a:pt x="17402" y="18652"/>
                  <a:pt x="17424" y="18670"/>
                  <a:pt x="17487" y="18628"/>
                </a:cubicBezTo>
                <a:cubicBezTo>
                  <a:pt x="17528" y="18601"/>
                  <a:pt x="17583" y="18573"/>
                  <a:pt x="17611" y="18529"/>
                </a:cubicBezTo>
                <a:cubicBezTo>
                  <a:pt x="17647" y="18473"/>
                  <a:pt x="17681" y="18417"/>
                  <a:pt x="17686" y="18355"/>
                </a:cubicBezTo>
                <a:cubicBezTo>
                  <a:pt x="17692" y="18285"/>
                  <a:pt x="17680" y="18238"/>
                  <a:pt x="17661" y="18182"/>
                </a:cubicBezTo>
                <a:cubicBezTo>
                  <a:pt x="17646" y="18138"/>
                  <a:pt x="17618" y="18096"/>
                  <a:pt x="17562" y="18083"/>
                </a:cubicBezTo>
                <a:cubicBezTo>
                  <a:pt x="17473" y="18062"/>
                  <a:pt x="17322" y="18075"/>
                  <a:pt x="17239" y="18107"/>
                </a:cubicBezTo>
                <a:cubicBezTo>
                  <a:pt x="17198" y="18123"/>
                  <a:pt x="17108" y="18187"/>
                  <a:pt x="17115" y="18207"/>
                </a:cubicBezTo>
                <a:cubicBezTo>
                  <a:pt x="17140" y="18207"/>
                  <a:pt x="17148" y="18207"/>
                  <a:pt x="17140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97800" y="4857840"/>
            <a:ext cx="27000" cy="285840"/>
          </a:xfrm>
          <a:custGeom>
            <a:avLst/>
            <a:gdLst/>
            <a:ahLst/>
            <a:rect l="l" t="t" r="r" b="b"/>
            <a:pathLst>
              <a:path w="75" h="795">
                <a:moveTo>
                  <a:pt x="18604" y="13494"/>
                </a:moveTo>
                <a:cubicBezTo>
                  <a:pt x="18604" y="13732"/>
                  <a:pt x="18629" y="13952"/>
                  <a:pt x="18653" y="14188"/>
                </a:cubicBezTo>
                <a:cubicBezTo>
                  <a:pt x="18660" y="14255"/>
                  <a:pt x="18673" y="14258"/>
                  <a:pt x="18653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27920" y="4911840"/>
            <a:ext cx="27000" cy="295200"/>
          </a:xfrm>
          <a:custGeom>
            <a:avLst/>
            <a:gdLst/>
            <a:ahLst/>
            <a:rect l="l" t="t" r="r" b="b"/>
            <a:pathLst>
              <a:path w="76" h="819">
                <a:moveTo>
                  <a:pt x="19546" y="13692"/>
                </a:moveTo>
                <a:cubicBezTo>
                  <a:pt x="19524" y="13670"/>
                  <a:pt x="19515" y="13665"/>
                  <a:pt x="19521" y="13643"/>
                </a:cubicBezTo>
                <a:cubicBezTo>
                  <a:pt x="19539" y="13908"/>
                  <a:pt x="19565" y="14170"/>
                  <a:pt x="19571" y="14436"/>
                </a:cubicBezTo>
                <a:cubicBezTo>
                  <a:pt x="19571" y="14464"/>
                  <a:pt x="19573" y="14470"/>
                  <a:pt x="1959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2240" y="4786200"/>
            <a:ext cx="189000" cy="27000"/>
          </a:xfrm>
          <a:custGeom>
            <a:avLst/>
            <a:gdLst/>
            <a:ahLst/>
            <a:rect l="l" t="t" r="r" b="b"/>
            <a:pathLst>
              <a:path w="522" h="76">
                <a:moveTo>
                  <a:pt x="17859" y="13295"/>
                </a:moveTo>
                <a:cubicBezTo>
                  <a:pt x="17828" y="13306"/>
                  <a:pt x="17752" y="13320"/>
                  <a:pt x="17785" y="13320"/>
                </a:cubicBezTo>
                <a:cubicBezTo>
                  <a:pt x="17836" y="13320"/>
                  <a:pt x="18002" y="13317"/>
                  <a:pt x="18083" y="13320"/>
                </a:cubicBezTo>
                <a:cubicBezTo>
                  <a:pt x="18127" y="13322"/>
                  <a:pt x="18293" y="13332"/>
                  <a:pt x="1830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mcgra</cp:lastModifiedBy>
  <dcterms:modified xsi:type="dcterms:W3CDTF">2012-05-04T15:09:29Z</dcterms:modified>
  <cp:revision>14</cp:revision>
  <dc:subject/>
  <dc:title>Unit 12: Integers </dc:title>
</cp:coreProperties>
</file>